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88880" y="909720"/>
            <a:ext cx="1440000" cy="1439640"/>
            <a:chOff x="488880" y="909720"/>
            <a:chExt cx="1440000" cy="1439640"/>
          </a:xfrm>
        </p:grpSpPr>
        <p:grpSp>
          <p:nvGrpSpPr>
            <p:cNvPr id="56" name=""/>
            <p:cNvGrpSpPr/>
            <p:nvPr/>
          </p:nvGrpSpPr>
          <p:grpSpPr>
            <a:xfrm>
              <a:off x="488880" y="909720"/>
              <a:ext cx="1440000" cy="1439640"/>
              <a:chOff x="488880" y="909720"/>
              <a:chExt cx="1440000" cy="1439640"/>
            </a:xfrm>
          </p:grpSpPr>
          <p:sp>
            <p:nvSpPr>
              <p:cNvPr id="57" name=""/>
              <p:cNvSpPr/>
              <p:nvPr/>
            </p:nvSpPr>
            <p:spPr>
              <a:xfrm>
                <a:off x="488880" y="154296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8880" y="9097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8880" y="9097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88880" y="90972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703440" y="1123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066" y="5836"/>
                  </a:moveTo>
                  <a:arcTo wR="-6545" hR="-6545" stAng="-2959479" swAng="-18640521"/>
                  <a:lnTo>
                    <a:pt x="0" y="10800"/>
                  </a:lnTo>
                  <a:arcTo wR="10800" hR="10800" stAng="10800000" swAng="18640521"/>
                  <a:lnTo>
                    <a:pt x="2001" y="21039"/>
                  </a:lnTo>
                  <a:lnTo>
                    <a:pt x="1486" y="14231"/>
                  </a:lnTo>
                  <a:lnTo>
                    <a:pt x="8294" y="137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360520" y="907920"/>
            <a:ext cx="1440000" cy="1440000"/>
            <a:chOff x="2360520" y="907920"/>
            <a:chExt cx="1440000" cy="1440000"/>
          </a:xfrm>
        </p:grpSpPr>
        <p:grpSp>
          <p:nvGrpSpPr>
            <p:cNvPr id="63" name=""/>
            <p:cNvGrpSpPr/>
            <p:nvPr/>
          </p:nvGrpSpPr>
          <p:grpSpPr>
            <a:xfrm>
              <a:off x="2360520" y="907920"/>
              <a:ext cx="1440000" cy="1440000"/>
              <a:chOff x="2360520" y="907920"/>
              <a:chExt cx="1440000" cy="1440000"/>
            </a:xfrm>
          </p:grpSpPr>
          <p:sp>
            <p:nvSpPr>
              <p:cNvPr id="64" name=""/>
              <p:cNvSpPr/>
              <p:nvPr/>
            </p:nvSpPr>
            <p:spPr>
              <a:xfrm>
                <a:off x="2360520" y="154152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60520" y="907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0520" y="907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60520" y="90792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505240" y="1052640"/>
              <a:ext cx="1152360" cy="1150920"/>
            </a:xfrm>
            <a:custGeom>
              <a:avLst/>
              <a:gdLst/>
              <a:ahLst/>
              <a:rect l="l" t="t" r="r" b="b"/>
              <a:pathLst>
                <a:path w="1089" h="725">
                  <a:moveTo>
                    <a:pt x="408" y="589"/>
                  </a:moveTo>
                  <a:lnTo>
                    <a:pt x="544" y="589"/>
                  </a:lnTo>
                  <a:lnTo>
                    <a:pt x="544" y="725"/>
                  </a:lnTo>
                  <a:lnTo>
                    <a:pt x="181" y="725"/>
                  </a:lnTo>
                  <a:lnTo>
                    <a:pt x="181" y="363"/>
                  </a:lnTo>
                  <a:lnTo>
                    <a:pt x="0" y="363"/>
                  </a:lnTo>
                  <a:lnTo>
                    <a:pt x="544" y="0"/>
                  </a:lnTo>
                  <a:lnTo>
                    <a:pt x="1089" y="363"/>
                  </a:lnTo>
                  <a:lnTo>
                    <a:pt x="907" y="363"/>
                  </a:lnTo>
                  <a:lnTo>
                    <a:pt x="907" y="725"/>
                  </a:lnTo>
                  <a:lnTo>
                    <a:pt x="544" y="725"/>
                  </a:lnTo>
                  <a:lnTo>
                    <a:pt x="544" y="589"/>
                  </a:lnTo>
                  <a:lnTo>
                    <a:pt x="680" y="589"/>
                  </a:lnTo>
                  <a:lnTo>
                    <a:pt x="680" y="363"/>
                  </a:lnTo>
                  <a:lnTo>
                    <a:pt x="408" y="363"/>
                  </a:lnTo>
                  <a:lnTo>
                    <a:pt x="408" y="58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232160" y="907920"/>
            <a:ext cx="1440000" cy="1440000"/>
            <a:chOff x="4232160" y="907920"/>
            <a:chExt cx="1440000" cy="1440000"/>
          </a:xfrm>
        </p:grpSpPr>
        <p:grpSp>
          <p:nvGrpSpPr>
            <p:cNvPr id="70" name=""/>
            <p:cNvGrpSpPr/>
            <p:nvPr/>
          </p:nvGrpSpPr>
          <p:grpSpPr>
            <a:xfrm>
              <a:off x="4232160" y="907920"/>
              <a:ext cx="1440000" cy="1440000"/>
              <a:chOff x="4232160" y="907920"/>
              <a:chExt cx="1440000" cy="1440000"/>
            </a:xfrm>
          </p:grpSpPr>
          <p:sp>
            <p:nvSpPr>
              <p:cNvPr id="71" name=""/>
              <p:cNvSpPr/>
              <p:nvPr/>
            </p:nvSpPr>
            <p:spPr>
              <a:xfrm>
                <a:off x="4232160" y="154152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32160" y="907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32160" y="907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232160" y="90792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521240" y="1125360"/>
              <a:ext cx="863640" cy="1079640"/>
              <a:chOff x="4521240" y="1125360"/>
              <a:chExt cx="863640" cy="1079640"/>
            </a:xfrm>
          </p:grpSpPr>
          <p:sp>
            <p:nvSpPr>
              <p:cNvPr id="76" name=""/>
              <p:cNvSpPr/>
              <p:nvPr/>
            </p:nvSpPr>
            <p:spPr>
              <a:xfrm>
                <a:off x="4521240" y="1125360"/>
                <a:ext cx="863640" cy="1079640"/>
              </a:xfrm>
              <a:prstGeom prst="foldedCorner">
                <a:avLst>
                  <a:gd name="adj" fmla="val 20402"/>
                </a:avLst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92520" y="1268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92520" y="141300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92520" y="1555920"/>
                <a:ext cx="720720" cy="7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92520" y="1700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92520" y="184464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6103800" y="906480"/>
            <a:ext cx="1440000" cy="1440000"/>
            <a:chOff x="6103800" y="906480"/>
            <a:chExt cx="1440000" cy="1440000"/>
          </a:xfrm>
        </p:grpSpPr>
        <p:grpSp>
          <p:nvGrpSpPr>
            <p:cNvPr id="83" name=""/>
            <p:cNvGrpSpPr/>
            <p:nvPr/>
          </p:nvGrpSpPr>
          <p:grpSpPr>
            <a:xfrm>
              <a:off x="6103800" y="906480"/>
              <a:ext cx="1440000" cy="1440000"/>
              <a:chOff x="6103800" y="906480"/>
              <a:chExt cx="1440000" cy="1440000"/>
            </a:xfrm>
          </p:grpSpPr>
          <p:sp>
            <p:nvSpPr>
              <p:cNvPr id="84" name=""/>
              <p:cNvSpPr/>
              <p:nvPr/>
            </p:nvSpPr>
            <p:spPr>
              <a:xfrm>
                <a:off x="6103800" y="154008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03800" y="90648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103800" y="90648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03800" y="90648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48520" y="1052640"/>
              <a:ext cx="1152360" cy="1093680"/>
            </a:xfrm>
            <a:prstGeom prst="star5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8880" y="2852640"/>
            <a:ext cx="1440000" cy="1440000"/>
            <a:chOff x="488880" y="2852640"/>
            <a:chExt cx="1440000" cy="1440000"/>
          </a:xfrm>
        </p:grpSpPr>
        <p:grpSp>
          <p:nvGrpSpPr>
            <p:cNvPr id="90" name=""/>
            <p:cNvGrpSpPr/>
            <p:nvPr/>
          </p:nvGrpSpPr>
          <p:grpSpPr>
            <a:xfrm>
              <a:off x="488880" y="2852640"/>
              <a:ext cx="1440000" cy="1440000"/>
              <a:chOff x="488880" y="2852640"/>
              <a:chExt cx="1440000" cy="1440000"/>
            </a:xfrm>
          </p:grpSpPr>
          <p:sp>
            <p:nvSpPr>
              <p:cNvPr id="91" name=""/>
              <p:cNvSpPr/>
              <p:nvPr/>
            </p:nvSpPr>
            <p:spPr>
              <a:xfrm>
                <a:off x="488880" y="348624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8880" y="285264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8880" y="285264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8880" y="285264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31800" y="3078000"/>
              <a:ext cx="1152720" cy="927360"/>
            </a:xfrm>
            <a:prstGeom prst="wedgeEllipseCallout">
              <a:avLst>
                <a:gd name="adj1" fmla="val -38569"/>
                <a:gd name="adj2" fmla="val 5787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360520" y="2851200"/>
            <a:ext cx="1440000" cy="1439640"/>
            <a:chOff x="2360520" y="2851200"/>
            <a:chExt cx="1440000" cy="1439640"/>
          </a:xfrm>
        </p:grpSpPr>
        <p:grpSp>
          <p:nvGrpSpPr>
            <p:cNvPr id="97" name=""/>
            <p:cNvGrpSpPr/>
            <p:nvPr/>
          </p:nvGrpSpPr>
          <p:grpSpPr>
            <a:xfrm>
              <a:off x="2360520" y="2851200"/>
              <a:ext cx="1440000" cy="1439640"/>
              <a:chOff x="2360520" y="2851200"/>
              <a:chExt cx="1440000" cy="1439640"/>
            </a:xfrm>
          </p:grpSpPr>
          <p:sp>
            <p:nvSpPr>
              <p:cNvPr id="98" name=""/>
              <p:cNvSpPr/>
              <p:nvPr/>
            </p:nvSpPr>
            <p:spPr>
              <a:xfrm>
                <a:off x="2360520" y="348444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60520" y="285120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0520" y="285120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0520" y="285120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505240" y="3141720"/>
              <a:ext cx="1152360" cy="934920"/>
            </a:xfrm>
            <a:prstGeom prst="flowChartMultidocumen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8880" y="4797360"/>
            <a:ext cx="1440000" cy="1440000"/>
            <a:chOff x="488880" y="4797360"/>
            <a:chExt cx="1440000" cy="1440000"/>
          </a:xfrm>
        </p:grpSpPr>
        <p:grpSp>
          <p:nvGrpSpPr>
            <p:cNvPr id="104" name=""/>
            <p:cNvGrpSpPr/>
            <p:nvPr/>
          </p:nvGrpSpPr>
          <p:grpSpPr>
            <a:xfrm>
              <a:off x="488880" y="4797360"/>
              <a:ext cx="1440000" cy="1440000"/>
              <a:chOff x="488880" y="4797360"/>
              <a:chExt cx="1440000" cy="1440000"/>
            </a:xfrm>
          </p:grpSpPr>
          <p:sp>
            <p:nvSpPr>
              <p:cNvPr id="105" name=""/>
              <p:cNvSpPr/>
              <p:nvPr/>
            </p:nvSpPr>
            <p:spPr>
              <a:xfrm>
                <a:off x="488880" y="543096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8880" y="479736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8880" y="479736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880" y="479736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04880" y="5084640"/>
              <a:ext cx="1008000" cy="865440"/>
            </a:xfrm>
            <a:custGeom>
              <a:avLst/>
              <a:gdLst/>
              <a:ahLst/>
              <a:rect l="l" t="t" r="r" b="b"/>
              <a:pathLst>
                <a:path w="681" h="545">
                  <a:moveTo>
                    <a:pt x="681" y="545"/>
                  </a:moveTo>
                  <a:lnTo>
                    <a:pt x="0" y="545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363" y="0"/>
                  </a:lnTo>
                  <a:lnTo>
                    <a:pt x="416" y="91"/>
                  </a:lnTo>
                  <a:lnTo>
                    <a:pt x="681" y="91"/>
                  </a:lnTo>
                  <a:lnTo>
                    <a:pt x="681" y="54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360520" y="4795920"/>
            <a:ext cx="1440000" cy="1439640"/>
            <a:chOff x="2360520" y="4795920"/>
            <a:chExt cx="1440000" cy="1439640"/>
          </a:xfrm>
        </p:grpSpPr>
        <p:grpSp>
          <p:nvGrpSpPr>
            <p:cNvPr id="111" name=""/>
            <p:cNvGrpSpPr/>
            <p:nvPr/>
          </p:nvGrpSpPr>
          <p:grpSpPr>
            <a:xfrm>
              <a:off x="2360520" y="4795920"/>
              <a:ext cx="1440000" cy="1439640"/>
              <a:chOff x="2360520" y="4795920"/>
              <a:chExt cx="1440000" cy="1439640"/>
            </a:xfrm>
          </p:grpSpPr>
          <p:sp>
            <p:nvSpPr>
              <p:cNvPr id="112" name=""/>
              <p:cNvSpPr/>
              <p:nvPr/>
            </p:nvSpPr>
            <p:spPr>
              <a:xfrm>
                <a:off x="2360520" y="542916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60520" y="4795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0520" y="4795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60520" y="479592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576520" y="5013360"/>
              <a:ext cx="1008000" cy="1008000"/>
            </a:xfrm>
            <a:prstGeom prst="donut">
              <a:avLst>
                <a:gd name="adj" fmla="val 3793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232160" y="4795920"/>
            <a:ext cx="1440000" cy="1439640"/>
            <a:chOff x="4232160" y="4795920"/>
            <a:chExt cx="1440000" cy="1439640"/>
          </a:xfrm>
        </p:grpSpPr>
        <p:grpSp>
          <p:nvGrpSpPr>
            <p:cNvPr id="118" name=""/>
            <p:cNvGrpSpPr/>
            <p:nvPr/>
          </p:nvGrpSpPr>
          <p:grpSpPr>
            <a:xfrm>
              <a:off x="4232160" y="4795920"/>
              <a:ext cx="1440000" cy="1439640"/>
              <a:chOff x="4232160" y="4795920"/>
              <a:chExt cx="1440000" cy="1439640"/>
            </a:xfrm>
          </p:grpSpPr>
          <p:sp>
            <p:nvSpPr>
              <p:cNvPr id="119" name=""/>
              <p:cNvSpPr/>
              <p:nvPr/>
            </p:nvSpPr>
            <p:spPr>
              <a:xfrm>
                <a:off x="4232160" y="542916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32160" y="4795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32160" y="4795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32160" y="479592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448160" y="5084640"/>
              <a:ext cx="1009800" cy="93672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32160" y="2851200"/>
            <a:ext cx="1440000" cy="1439640"/>
            <a:chOff x="4232160" y="2851200"/>
            <a:chExt cx="1440000" cy="1439640"/>
          </a:xfrm>
        </p:grpSpPr>
        <p:grpSp>
          <p:nvGrpSpPr>
            <p:cNvPr id="125" name=""/>
            <p:cNvGrpSpPr/>
            <p:nvPr/>
          </p:nvGrpSpPr>
          <p:grpSpPr>
            <a:xfrm>
              <a:off x="4232160" y="2851200"/>
              <a:ext cx="1440000" cy="1439640"/>
              <a:chOff x="4232160" y="2851200"/>
              <a:chExt cx="1440000" cy="1439640"/>
            </a:xfrm>
          </p:grpSpPr>
          <p:sp>
            <p:nvSpPr>
              <p:cNvPr id="126" name=""/>
              <p:cNvSpPr/>
              <p:nvPr/>
            </p:nvSpPr>
            <p:spPr>
              <a:xfrm>
                <a:off x="4232160" y="348444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32160" y="285120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32160" y="285120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32160" y="285120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376880" y="3068640"/>
              <a:ext cx="1152360" cy="1081080"/>
            </a:xfrm>
            <a:custGeom>
              <a:avLst/>
              <a:gdLst>
                <a:gd name="textAreaLeft" fmla="*/ 180000 w 1152360"/>
                <a:gd name="textAreaRight" fmla="*/ 868320 w 1152360"/>
                <a:gd name="textAreaTop" fmla="*/ 218880 h 1081080"/>
                <a:gd name="textAreaBottom" fmla="*/ 8622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377"/>
                  </a:moveTo>
                  <a:lnTo>
                    <a:pt x="12645" y="4377"/>
                  </a:lnTo>
                  <a:lnTo>
                    <a:pt x="12645" y="0"/>
                  </a:lnTo>
                  <a:lnTo>
                    <a:pt x="21600" y="10800"/>
                  </a:lnTo>
                  <a:lnTo>
                    <a:pt x="12645" y="21600"/>
                  </a:lnTo>
                  <a:lnTo>
                    <a:pt x="12645" y="17223"/>
                  </a:lnTo>
                  <a:lnTo>
                    <a:pt x="3375" y="17223"/>
                  </a:lnTo>
                  <a:close/>
                </a:path>
                <a:path w="21600" h="21600">
                  <a:moveTo>
                    <a:pt x="0" y="4377"/>
                  </a:moveTo>
                  <a:lnTo>
                    <a:pt x="675" y="4377"/>
                  </a:lnTo>
                  <a:lnTo>
                    <a:pt x="675" y="17223"/>
                  </a:lnTo>
                  <a:lnTo>
                    <a:pt x="0" y="17223"/>
                  </a:lnTo>
                  <a:close/>
                </a:path>
                <a:path w="21600" h="21600">
                  <a:moveTo>
                    <a:pt x="1350" y="4377"/>
                  </a:moveTo>
                  <a:lnTo>
                    <a:pt x="2700" y="4377"/>
                  </a:lnTo>
                  <a:lnTo>
                    <a:pt x="2700" y="17223"/>
                  </a:lnTo>
                  <a:lnTo>
                    <a:pt x="1350" y="17223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103800" y="2849400"/>
            <a:ext cx="1440000" cy="1440000"/>
            <a:chOff x="6103800" y="2849400"/>
            <a:chExt cx="1440000" cy="1440000"/>
          </a:xfrm>
        </p:grpSpPr>
        <p:grpSp>
          <p:nvGrpSpPr>
            <p:cNvPr id="132" name=""/>
            <p:cNvGrpSpPr/>
            <p:nvPr/>
          </p:nvGrpSpPr>
          <p:grpSpPr>
            <a:xfrm>
              <a:off x="6103800" y="2849400"/>
              <a:ext cx="1440000" cy="1440000"/>
              <a:chOff x="6103800" y="2849400"/>
              <a:chExt cx="1440000" cy="1440000"/>
            </a:xfrm>
          </p:grpSpPr>
          <p:sp>
            <p:nvSpPr>
              <p:cNvPr id="133" name=""/>
              <p:cNvSpPr/>
              <p:nvPr/>
            </p:nvSpPr>
            <p:spPr>
              <a:xfrm>
                <a:off x="6103800" y="348300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03800" y="284940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03800" y="284940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03800" y="284940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321600" y="3068640"/>
              <a:ext cx="1008000" cy="1081080"/>
            </a:xfrm>
            <a:prstGeom prst="can">
              <a:avLst>
                <a:gd name="adj" fmla="val 4135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103800" y="4794120"/>
            <a:ext cx="1440000" cy="1440000"/>
            <a:chOff x="6103800" y="4794120"/>
            <a:chExt cx="1440000" cy="1440000"/>
          </a:xfrm>
        </p:grpSpPr>
        <p:grpSp>
          <p:nvGrpSpPr>
            <p:cNvPr id="139" name=""/>
            <p:cNvGrpSpPr/>
            <p:nvPr/>
          </p:nvGrpSpPr>
          <p:grpSpPr>
            <a:xfrm>
              <a:off x="6103800" y="4794120"/>
              <a:ext cx="1440000" cy="1440000"/>
              <a:chOff x="6103800" y="4794120"/>
              <a:chExt cx="1440000" cy="1440000"/>
            </a:xfrm>
          </p:grpSpPr>
          <p:sp>
            <p:nvSpPr>
              <p:cNvPr id="140" name=""/>
              <p:cNvSpPr/>
              <p:nvPr/>
            </p:nvSpPr>
            <p:spPr>
              <a:xfrm>
                <a:off x="6103800" y="542772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03800" y="47941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03800" y="47941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03800" y="479412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21600" y="5013360"/>
              <a:ext cx="1008000" cy="1008000"/>
            </a:xfrm>
            <a:prstGeom prst="donut">
              <a:avLst>
                <a:gd name="adj" fmla="val 16148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977240" y="4795920"/>
            <a:ext cx="1439640" cy="1439640"/>
            <a:chOff x="7977240" y="4795920"/>
            <a:chExt cx="1439640" cy="1439640"/>
          </a:xfrm>
        </p:grpSpPr>
        <p:grpSp>
          <p:nvGrpSpPr>
            <p:cNvPr id="146" name=""/>
            <p:cNvGrpSpPr/>
            <p:nvPr/>
          </p:nvGrpSpPr>
          <p:grpSpPr>
            <a:xfrm>
              <a:off x="7977240" y="4795920"/>
              <a:ext cx="1439640" cy="1439640"/>
              <a:chOff x="7977240" y="4795920"/>
              <a:chExt cx="1439640" cy="1439640"/>
            </a:xfrm>
          </p:grpSpPr>
          <p:sp>
            <p:nvSpPr>
              <p:cNvPr id="147" name=""/>
              <p:cNvSpPr/>
              <p:nvPr/>
            </p:nvSpPr>
            <p:spPr>
              <a:xfrm>
                <a:off x="7977240" y="5429160"/>
                <a:ext cx="143964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7240" y="4795920"/>
                <a:ext cx="143964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77240" y="4795920"/>
                <a:ext cx="143964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77240" y="4795920"/>
                <a:ext cx="143964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2700000">
              <a:off x="8193240" y="5013000"/>
              <a:ext cx="1008000" cy="1008000"/>
            </a:xfrm>
            <a:prstGeom prst="plus">
              <a:avLst>
                <a:gd name="adj" fmla="val 4209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977240" y="907920"/>
            <a:ext cx="1439640" cy="1440000"/>
            <a:chOff x="7977240" y="907920"/>
            <a:chExt cx="1439640" cy="1440000"/>
          </a:xfrm>
        </p:grpSpPr>
        <p:grpSp>
          <p:nvGrpSpPr>
            <p:cNvPr id="153" name=""/>
            <p:cNvGrpSpPr/>
            <p:nvPr/>
          </p:nvGrpSpPr>
          <p:grpSpPr>
            <a:xfrm>
              <a:off x="7977240" y="907920"/>
              <a:ext cx="1439640" cy="1440000"/>
              <a:chOff x="7977240" y="907920"/>
              <a:chExt cx="1439640" cy="1440000"/>
            </a:xfrm>
          </p:grpSpPr>
          <p:sp>
            <p:nvSpPr>
              <p:cNvPr id="154" name=""/>
              <p:cNvSpPr/>
              <p:nvPr/>
            </p:nvSpPr>
            <p:spPr>
              <a:xfrm>
                <a:off x="7977240" y="1541520"/>
                <a:ext cx="143964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77240" y="907920"/>
                <a:ext cx="143964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7240" y="907920"/>
                <a:ext cx="143964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77240" y="907920"/>
                <a:ext cx="1439640" cy="1440000"/>
              </a:xfrm>
              <a:custGeom>
                <a:avLst/>
                <a:gdLst>
                  <a:gd name="textAreaLeft" fmla="*/ 30960 w 1439640"/>
                  <a:gd name="textAreaRight" fmla="*/ 1408680 w 1439640"/>
                  <a:gd name="textAreaTop" fmla="*/ 30960 h 1440000"/>
                  <a:gd name="textAreaBottom" fmla="*/ 1409040 h 1440000"/>
                </a:gdLst>
                <a:ahLst/>
                <a:rect l="textAreaLeft" t="textAreaTop" r="textAreaRight" b="textAreaBottom"/>
                <a:pathLst>
                  <a:path w="21600" h="21605">
                    <a:moveTo>
                      <a:pt x="1600" y="0"/>
                    </a:moveTo>
                    <a:arcTo wR="1600" hR="1600" stAng="16200000" swAng="-5400000"/>
                    <a:lnTo>
                      <a:pt x="0" y="20005"/>
                    </a:lnTo>
                    <a:arcTo wR="1600" hR="1600" stAng="10800000" swAng="-5400000"/>
                    <a:lnTo>
                      <a:pt x="20000" y="21605"/>
                    </a:lnTo>
                    <a:arcTo wR="1600" hR="1600" stAng="5400000" swAng="-5400000"/>
                    <a:lnTo>
                      <a:pt x="21600" y="1600"/>
                    </a:lnTo>
                    <a:arcTo wR="1600" hR="1600" stAng="0" swAng="-5400000"/>
                    <a:close/>
                  </a:path>
                </a:pathLst>
              </a:cu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265960" y="1268280"/>
              <a:ext cx="57636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13960" y="1123920"/>
              <a:ext cx="215640" cy="998640"/>
            </a:xfrm>
            <a:custGeom>
              <a:avLst/>
              <a:gdLst/>
              <a:ahLst/>
              <a:rect l="l" t="t" r="r" b="b"/>
              <a:pathLst>
                <a:path w="136" h="681">
                  <a:moveTo>
                    <a:pt x="0" y="681"/>
                  </a:moveTo>
                  <a:lnTo>
                    <a:pt x="0" y="91"/>
                  </a:lnTo>
                  <a:lnTo>
                    <a:pt x="136" y="0"/>
                  </a:lnTo>
                  <a:lnTo>
                    <a:pt x="136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977240" y="2851200"/>
            <a:ext cx="1439640" cy="1439640"/>
            <a:chOff x="7977240" y="2851200"/>
            <a:chExt cx="1439640" cy="1439640"/>
          </a:xfrm>
        </p:grpSpPr>
        <p:grpSp>
          <p:nvGrpSpPr>
            <p:cNvPr id="161" name=""/>
            <p:cNvGrpSpPr/>
            <p:nvPr/>
          </p:nvGrpSpPr>
          <p:grpSpPr>
            <a:xfrm>
              <a:off x="7977240" y="2851200"/>
              <a:ext cx="1439640" cy="1439640"/>
              <a:chOff x="7977240" y="2851200"/>
              <a:chExt cx="1439640" cy="1439640"/>
            </a:xfrm>
          </p:grpSpPr>
          <p:sp>
            <p:nvSpPr>
              <p:cNvPr id="162" name=""/>
              <p:cNvSpPr/>
              <p:nvPr/>
            </p:nvSpPr>
            <p:spPr>
              <a:xfrm>
                <a:off x="7977240" y="3484440"/>
                <a:ext cx="143964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240" y="2851200"/>
                <a:ext cx="143964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77240" y="2851200"/>
                <a:ext cx="143964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77240" y="2851200"/>
                <a:ext cx="143964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193240" y="3068640"/>
              <a:ext cx="1079280" cy="1008000"/>
            </a:xfrm>
            <a:custGeom>
              <a:avLst/>
              <a:gdLst>
                <a:gd name="textAreaLeft" fmla="*/ 428400 w 1079280"/>
                <a:gd name="textAreaRight" fmla="*/ 887400 w 1079280"/>
                <a:gd name="textAreaTop" fmla="*/ 615240 h 1008000"/>
                <a:gd name="textAreaBottom" fmla="*/ 828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028"/>
                  </a:moveTo>
                  <a:lnTo>
                    <a:pt x="13184" y="17028"/>
                  </a:lnTo>
                  <a:lnTo>
                    <a:pt x="13184" y="8572"/>
                  </a:lnTo>
                  <a:lnTo>
                    <a:pt x="9340" y="8572"/>
                  </a:lnTo>
                  <a:lnTo>
                    <a:pt x="15470" y="0"/>
                  </a:lnTo>
                  <a:lnTo>
                    <a:pt x="21600" y="8572"/>
                  </a:lnTo>
                  <a:lnTo>
                    <a:pt x="17756" y="8572"/>
                  </a:lnTo>
                  <a:lnTo>
                    <a:pt x="1775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88880" y="909720"/>
            <a:ext cx="1440000" cy="1439640"/>
            <a:chOff x="488880" y="909720"/>
            <a:chExt cx="1440000" cy="1439640"/>
          </a:xfrm>
        </p:grpSpPr>
        <p:grpSp>
          <p:nvGrpSpPr>
            <p:cNvPr id="168" name=""/>
            <p:cNvGrpSpPr/>
            <p:nvPr/>
          </p:nvGrpSpPr>
          <p:grpSpPr>
            <a:xfrm>
              <a:off x="488880" y="909720"/>
              <a:ext cx="1440000" cy="1439640"/>
              <a:chOff x="488880" y="909720"/>
              <a:chExt cx="1440000" cy="1439640"/>
            </a:xfrm>
          </p:grpSpPr>
          <p:sp>
            <p:nvSpPr>
              <p:cNvPr id="169" name=""/>
              <p:cNvSpPr/>
              <p:nvPr/>
            </p:nvSpPr>
            <p:spPr>
              <a:xfrm>
                <a:off x="488880" y="154296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8880" y="9097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8880" y="9097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880" y="90972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rot="19800000">
              <a:off x="898200" y="1047600"/>
              <a:ext cx="625320" cy="1190880"/>
            </a:xfrm>
            <a:prstGeom prst="upArrow">
              <a:avLst>
                <a:gd name="adj1" fmla="val 29556"/>
                <a:gd name="adj2" fmla="val 9806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8880" y="2852640"/>
            <a:ext cx="1440000" cy="1440000"/>
            <a:chOff x="488880" y="2852640"/>
            <a:chExt cx="1440000" cy="1440000"/>
          </a:xfrm>
        </p:grpSpPr>
        <p:grpSp>
          <p:nvGrpSpPr>
            <p:cNvPr id="175" name=""/>
            <p:cNvGrpSpPr/>
            <p:nvPr/>
          </p:nvGrpSpPr>
          <p:grpSpPr>
            <a:xfrm>
              <a:off x="488880" y="2852640"/>
              <a:ext cx="1440000" cy="1440000"/>
              <a:chOff x="488880" y="2852640"/>
              <a:chExt cx="1440000" cy="1440000"/>
            </a:xfrm>
          </p:grpSpPr>
          <p:sp>
            <p:nvSpPr>
              <p:cNvPr id="176" name=""/>
              <p:cNvSpPr/>
              <p:nvPr/>
            </p:nvSpPr>
            <p:spPr>
              <a:xfrm>
                <a:off x="488880" y="348624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8880" y="285264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8880" y="285264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8880" y="285264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849240" y="2997360"/>
              <a:ext cx="673200" cy="1159920"/>
              <a:chOff x="849240" y="2997360"/>
              <a:chExt cx="673200" cy="11599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920160" y="3125520"/>
                <a:ext cx="601920" cy="1031760"/>
                <a:chOff x="920160" y="3125520"/>
                <a:chExt cx="601920" cy="1031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920160" y="3125520"/>
                  <a:ext cx="601920" cy="103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61280" y="3254400"/>
                  <a:ext cx="318240" cy="102600"/>
                </a:xfrm>
                <a:prstGeom prst="rect">
                  <a:avLst/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849240" y="3022920"/>
                <a:ext cx="28332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310040" y="2997360"/>
                <a:ext cx="21240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2360520" y="2851200"/>
            <a:ext cx="1440000" cy="1439640"/>
            <a:chOff x="2360520" y="2851200"/>
            <a:chExt cx="1440000" cy="1439640"/>
          </a:xfrm>
        </p:grpSpPr>
        <p:grpSp>
          <p:nvGrpSpPr>
            <p:cNvPr id="187" name=""/>
            <p:cNvGrpSpPr/>
            <p:nvPr/>
          </p:nvGrpSpPr>
          <p:grpSpPr>
            <a:xfrm>
              <a:off x="2360520" y="2851200"/>
              <a:ext cx="1440000" cy="1439640"/>
              <a:chOff x="2360520" y="2851200"/>
              <a:chExt cx="1440000" cy="1439640"/>
            </a:xfrm>
          </p:grpSpPr>
          <p:sp>
            <p:nvSpPr>
              <p:cNvPr id="188" name=""/>
              <p:cNvSpPr/>
              <p:nvPr/>
            </p:nvSpPr>
            <p:spPr>
              <a:xfrm>
                <a:off x="2360520" y="348444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0520" y="285120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0520" y="285120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0520" y="285120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649600" y="3141720"/>
              <a:ext cx="934920" cy="934920"/>
            </a:xfrm>
            <a:prstGeom prst="lightningBol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360520" y="907920"/>
            <a:ext cx="1440000" cy="1440000"/>
            <a:chOff x="2360520" y="907920"/>
            <a:chExt cx="1440000" cy="1440000"/>
          </a:xfrm>
        </p:grpSpPr>
        <p:grpSp>
          <p:nvGrpSpPr>
            <p:cNvPr id="194" name=""/>
            <p:cNvGrpSpPr/>
            <p:nvPr/>
          </p:nvGrpSpPr>
          <p:grpSpPr>
            <a:xfrm>
              <a:off x="2360520" y="907920"/>
              <a:ext cx="1440000" cy="1440000"/>
              <a:chOff x="2360520" y="907920"/>
              <a:chExt cx="1440000" cy="1440000"/>
            </a:xfrm>
          </p:grpSpPr>
          <p:sp>
            <p:nvSpPr>
              <p:cNvPr id="195" name=""/>
              <p:cNvSpPr/>
              <p:nvPr/>
            </p:nvSpPr>
            <p:spPr>
              <a:xfrm>
                <a:off x="2360520" y="154152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60520" y="907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60520" y="907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60520" y="90792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576520" y="1125360"/>
              <a:ext cx="1008000" cy="1008360"/>
            </a:xfrm>
            <a:prstGeom prst="noSmoking">
              <a:avLst>
                <a:gd name="adj" fmla="val 125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232160" y="907920"/>
            <a:ext cx="1440000" cy="1440000"/>
            <a:chOff x="4232160" y="907920"/>
            <a:chExt cx="1440000" cy="1440000"/>
          </a:xfrm>
        </p:grpSpPr>
        <p:grpSp>
          <p:nvGrpSpPr>
            <p:cNvPr id="201" name=""/>
            <p:cNvGrpSpPr/>
            <p:nvPr/>
          </p:nvGrpSpPr>
          <p:grpSpPr>
            <a:xfrm>
              <a:off x="4232160" y="907920"/>
              <a:ext cx="1440000" cy="1440000"/>
              <a:chOff x="4232160" y="907920"/>
              <a:chExt cx="1440000" cy="1440000"/>
            </a:xfrm>
          </p:grpSpPr>
          <p:sp>
            <p:nvSpPr>
              <p:cNvPr id="202" name=""/>
              <p:cNvSpPr/>
              <p:nvPr/>
            </p:nvSpPr>
            <p:spPr>
              <a:xfrm>
                <a:off x="4232160" y="154152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32160" y="907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32160" y="907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32160" y="90792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665600" y="1125360"/>
              <a:ext cx="576360" cy="10796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81" y="0"/>
                  </a:moveTo>
                  <a:lnTo>
                    <a:pt x="0" y="454"/>
                  </a:lnTo>
                  <a:cubicBezTo>
                    <a:pt x="0" y="560"/>
                    <a:pt x="121" y="635"/>
                    <a:pt x="181" y="635"/>
                  </a:cubicBezTo>
                  <a:cubicBezTo>
                    <a:pt x="241" y="635"/>
                    <a:pt x="363" y="560"/>
                    <a:pt x="363" y="454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232160" y="2851200"/>
            <a:ext cx="1440000" cy="1439640"/>
            <a:chOff x="4232160" y="2851200"/>
            <a:chExt cx="1440000" cy="1439640"/>
          </a:xfrm>
        </p:grpSpPr>
        <p:grpSp>
          <p:nvGrpSpPr>
            <p:cNvPr id="208" name=""/>
            <p:cNvGrpSpPr/>
            <p:nvPr/>
          </p:nvGrpSpPr>
          <p:grpSpPr>
            <a:xfrm>
              <a:off x="4232160" y="2851200"/>
              <a:ext cx="1440000" cy="1439640"/>
              <a:chOff x="4232160" y="2851200"/>
              <a:chExt cx="1440000" cy="1439640"/>
            </a:xfrm>
          </p:grpSpPr>
          <p:sp>
            <p:nvSpPr>
              <p:cNvPr id="209" name=""/>
              <p:cNvSpPr/>
              <p:nvPr/>
            </p:nvSpPr>
            <p:spPr>
              <a:xfrm>
                <a:off x="4232160" y="348444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32160" y="285120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32160" y="285120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232160" y="285120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519440" y="3068640"/>
              <a:ext cx="865440" cy="865080"/>
            </a:xfrm>
            <a:prstGeom prst="blockArc">
              <a:avLst>
                <a:gd name="adj1" fmla="val 10960394"/>
                <a:gd name="adj2" fmla="val 21439606"/>
                <a:gd name="adj3" fmla="val 2052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1800" y="3500280"/>
              <a:ext cx="1081080" cy="649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03800" y="906480"/>
            <a:ext cx="1440000" cy="1440000"/>
            <a:chOff x="6103800" y="906480"/>
            <a:chExt cx="1440000" cy="1440000"/>
          </a:xfrm>
        </p:grpSpPr>
        <p:grpSp>
          <p:nvGrpSpPr>
            <p:cNvPr id="216" name=""/>
            <p:cNvGrpSpPr/>
            <p:nvPr/>
          </p:nvGrpSpPr>
          <p:grpSpPr>
            <a:xfrm>
              <a:off x="6103800" y="906480"/>
              <a:ext cx="1440000" cy="1440000"/>
              <a:chOff x="6103800" y="906480"/>
              <a:chExt cx="1440000" cy="1440000"/>
            </a:xfrm>
          </p:grpSpPr>
          <p:sp>
            <p:nvSpPr>
              <p:cNvPr id="217" name=""/>
              <p:cNvSpPr/>
              <p:nvPr/>
            </p:nvSpPr>
            <p:spPr>
              <a:xfrm>
                <a:off x="6103800" y="154008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03800" y="90648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03800" y="90648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03800" y="90648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392880" y="1125360"/>
              <a:ext cx="946080" cy="1089000"/>
              <a:chOff x="6392880" y="1125360"/>
              <a:chExt cx="946080" cy="1089000"/>
            </a:xfrm>
          </p:grpSpPr>
          <p:sp>
            <p:nvSpPr>
              <p:cNvPr id="222" name=""/>
              <p:cNvSpPr/>
              <p:nvPr/>
            </p:nvSpPr>
            <p:spPr>
              <a:xfrm>
                <a:off x="6392880" y="1363680"/>
                <a:ext cx="946080" cy="850680"/>
              </a:xfrm>
              <a:custGeom>
                <a:avLst/>
                <a:gdLst/>
                <a:ahLst/>
                <a:rect l="l" t="t" r="r" b="b"/>
                <a:pathLst>
                  <a:path w="908" h="816">
                    <a:moveTo>
                      <a:pt x="136" y="181"/>
                    </a:moveTo>
                    <a:lnTo>
                      <a:pt x="0" y="181"/>
                    </a:lnTo>
                    <a:lnTo>
                      <a:pt x="0" y="272"/>
                    </a:lnTo>
                    <a:lnTo>
                      <a:pt x="182" y="272"/>
                    </a:lnTo>
                    <a:lnTo>
                      <a:pt x="273" y="181"/>
                    </a:lnTo>
                    <a:lnTo>
                      <a:pt x="363" y="363"/>
                    </a:lnTo>
                    <a:lnTo>
                      <a:pt x="136" y="816"/>
                    </a:lnTo>
                    <a:lnTo>
                      <a:pt x="273" y="816"/>
                    </a:lnTo>
                    <a:lnTo>
                      <a:pt x="468" y="418"/>
                    </a:lnTo>
                    <a:lnTo>
                      <a:pt x="499" y="680"/>
                    </a:lnTo>
                    <a:lnTo>
                      <a:pt x="908" y="680"/>
                    </a:lnTo>
                    <a:lnTo>
                      <a:pt x="855" y="568"/>
                    </a:lnTo>
                    <a:lnTo>
                      <a:pt x="597" y="568"/>
                    </a:lnTo>
                    <a:lnTo>
                      <a:pt x="590" y="317"/>
                    </a:lnTo>
                    <a:lnTo>
                      <a:pt x="454" y="91"/>
                    </a:lnTo>
                    <a:lnTo>
                      <a:pt x="590" y="91"/>
                    </a:lnTo>
                    <a:lnTo>
                      <a:pt x="681" y="272"/>
                    </a:lnTo>
                    <a:lnTo>
                      <a:pt x="771" y="227"/>
                    </a:lnTo>
                    <a:lnTo>
                      <a:pt x="635" y="0"/>
                    </a:lnTo>
                    <a:lnTo>
                      <a:pt x="273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81880" y="1125360"/>
                <a:ext cx="236520" cy="2365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6103800" y="2849400"/>
            <a:ext cx="1440000" cy="1440000"/>
            <a:chOff x="6103800" y="2849400"/>
            <a:chExt cx="1440000" cy="1440000"/>
          </a:xfrm>
        </p:grpSpPr>
        <p:grpSp>
          <p:nvGrpSpPr>
            <p:cNvPr id="225" name=""/>
            <p:cNvGrpSpPr/>
            <p:nvPr/>
          </p:nvGrpSpPr>
          <p:grpSpPr>
            <a:xfrm>
              <a:off x="6103800" y="2849400"/>
              <a:ext cx="1440000" cy="1440000"/>
              <a:chOff x="6103800" y="2849400"/>
              <a:chExt cx="1440000" cy="1440000"/>
            </a:xfrm>
          </p:grpSpPr>
          <p:sp>
            <p:nvSpPr>
              <p:cNvPr id="226" name=""/>
              <p:cNvSpPr/>
              <p:nvPr/>
            </p:nvSpPr>
            <p:spPr>
              <a:xfrm>
                <a:off x="6103800" y="348300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03800" y="284940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03800" y="284940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03800" y="284940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 txBox="1"/>
            <p:nvPr/>
          </p:nvSpPr>
          <p:spPr>
            <a:xfrm>
              <a:off x="6465960" y="3068640"/>
              <a:ext cx="76824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 Black"/>
                </a:rPr>
                <a:t>?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929000" y="907920"/>
            <a:ext cx="1487880" cy="1497600"/>
            <a:chOff x="7929000" y="907920"/>
            <a:chExt cx="1487880" cy="1497600"/>
          </a:xfrm>
        </p:grpSpPr>
        <p:grpSp>
          <p:nvGrpSpPr>
            <p:cNvPr id="232" name=""/>
            <p:cNvGrpSpPr/>
            <p:nvPr/>
          </p:nvGrpSpPr>
          <p:grpSpPr>
            <a:xfrm>
              <a:off x="7977240" y="907920"/>
              <a:ext cx="1439640" cy="1440000"/>
              <a:chOff x="7977240" y="907920"/>
              <a:chExt cx="1439640" cy="1440000"/>
            </a:xfrm>
          </p:grpSpPr>
          <p:sp>
            <p:nvSpPr>
              <p:cNvPr id="233" name=""/>
              <p:cNvSpPr/>
              <p:nvPr/>
            </p:nvSpPr>
            <p:spPr>
              <a:xfrm>
                <a:off x="7977240" y="1541520"/>
                <a:ext cx="143964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77240" y="907920"/>
                <a:ext cx="143964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7240" y="907920"/>
                <a:ext cx="143964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77240" y="907920"/>
                <a:ext cx="1439640" cy="1440000"/>
              </a:xfrm>
              <a:custGeom>
                <a:avLst/>
                <a:gdLst>
                  <a:gd name="textAreaLeft" fmla="*/ 30960 w 1439640"/>
                  <a:gd name="textAreaRight" fmla="*/ 1408680 w 1439640"/>
                  <a:gd name="textAreaTop" fmla="*/ 30960 h 1440000"/>
                  <a:gd name="textAreaBottom" fmla="*/ 1409040 h 1440000"/>
                </a:gdLst>
                <a:ahLst/>
                <a:rect l="textAreaLeft" t="textAreaTop" r="textAreaRight" b="textAreaBottom"/>
                <a:pathLst>
                  <a:path w="21600" h="21605">
                    <a:moveTo>
                      <a:pt x="1600" y="0"/>
                    </a:moveTo>
                    <a:arcTo wR="1600" hR="1600" stAng="16200000" swAng="-5400000"/>
                    <a:lnTo>
                      <a:pt x="0" y="20005"/>
                    </a:lnTo>
                    <a:arcTo wR="1600" hR="1600" stAng="10800000" swAng="-5400000"/>
                    <a:lnTo>
                      <a:pt x="20000" y="21605"/>
                    </a:lnTo>
                    <a:arcTo wR="1600" hR="1600" stAng="5400000" swAng="-5400000"/>
                    <a:lnTo>
                      <a:pt x="21600" y="1600"/>
                    </a:lnTo>
                    <a:arcTo wR="1600" hR="1600" stAng="0" swAng="-5400000"/>
                    <a:close/>
                  </a:path>
                </a:pathLst>
              </a:cu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2700000">
              <a:off x="8273520" y="1111320"/>
              <a:ext cx="652680" cy="1245960"/>
            </a:xfrm>
            <a:custGeom>
              <a:avLst/>
              <a:gdLst/>
              <a:ahLst/>
              <a:rect l="l" t="t" r="r" b="b"/>
              <a:pathLst>
                <a:path w="499" h="953">
                  <a:moveTo>
                    <a:pt x="182" y="454"/>
                  </a:moveTo>
                  <a:lnTo>
                    <a:pt x="181" y="862"/>
                  </a:lnTo>
                  <a:lnTo>
                    <a:pt x="227" y="953"/>
                  </a:lnTo>
                  <a:lnTo>
                    <a:pt x="272" y="953"/>
                  </a:lnTo>
                  <a:lnTo>
                    <a:pt x="318" y="862"/>
                  </a:lnTo>
                  <a:lnTo>
                    <a:pt x="318" y="771"/>
                  </a:lnTo>
                  <a:lnTo>
                    <a:pt x="272" y="771"/>
                  </a:lnTo>
                  <a:lnTo>
                    <a:pt x="272" y="726"/>
                  </a:lnTo>
                  <a:lnTo>
                    <a:pt x="318" y="681"/>
                  </a:lnTo>
                  <a:lnTo>
                    <a:pt x="272" y="635"/>
                  </a:lnTo>
                  <a:lnTo>
                    <a:pt x="318" y="590"/>
                  </a:lnTo>
                  <a:lnTo>
                    <a:pt x="318" y="545"/>
                  </a:lnTo>
                  <a:lnTo>
                    <a:pt x="272" y="545"/>
                  </a:lnTo>
                  <a:lnTo>
                    <a:pt x="272" y="454"/>
                  </a:lnTo>
                  <a:lnTo>
                    <a:pt x="454" y="454"/>
                  </a:lnTo>
                  <a:lnTo>
                    <a:pt x="499" y="408"/>
                  </a:lnTo>
                  <a:lnTo>
                    <a:pt x="499" y="46"/>
                  </a:lnTo>
                  <a:lnTo>
                    <a:pt x="454" y="0"/>
                  </a:lnTo>
                  <a:lnTo>
                    <a:pt x="46" y="0"/>
                  </a:lnTo>
                  <a:lnTo>
                    <a:pt x="0" y="46"/>
                  </a:lnTo>
                  <a:lnTo>
                    <a:pt x="0" y="408"/>
                  </a:lnTo>
                  <a:lnTo>
                    <a:pt x="46" y="454"/>
                  </a:lnTo>
                  <a:lnTo>
                    <a:pt x="182" y="454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8880" y="4797360"/>
            <a:ext cx="1440000" cy="1440000"/>
            <a:chOff x="488880" y="4797360"/>
            <a:chExt cx="1440000" cy="1440000"/>
          </a:xfrm>
        </p:grpSpPr>
        <p:grpSp>
          <p:nvGrpSpPr>
            <p:cNvPr id="239" name=""/>
            <p:cNvGrpSpPr/>
            <p:nvPr/>
          </p:nvGrpSpPr>
          <p:grpSpPr>
            <a:xfrm>
              <a:off x="488880" y="4797360"/>
              <a:ext cx="1440000" cy="1440000"/>
              <a:chOff x="488880" y="4797360"/>
              <a:chExt cx="1440000" cy="1440000"/>
            </a:xfrm>
          </p:grpSpPr>
          <p:sp>
            <p:nvSpPr>
              <p:cNvPr id="240" name=""/>
              <p:cNvSpPr/>
              <p:nvPr/>
            </p:nvSpPr>
            <p:spPr>
              <a:xfrm>
                <a:off x="488880" y="543096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8880" y="479736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8880" y="479736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8880" y="479736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04880" y="5084640"/>
              <a:ext cx="720720" cy="865440"/>
            </a:xfrm>
            <a:custGeom>
              <a:avLst/>
              <a:gdLst/>
              <a:ahLst/>
              <a:rect l="l" t="t" r="r" b="b"/>
              <a:pathLst>
                <a:path w="454" h="545">
                  <a:moveTo>
                    <a:pt x="454" y="0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82" y="409"/>
                  </a:lnTo>
                  <a:lnTo>
                    <a:pt x="182" y="499"/>
                  </a:lnTo>
                  <a:lnTo>
                    <a:pt x="46" y="499"/>
                  </a:lnTo>
                  <a:lnTo>
                    <a:pt x="46" y="545"/>
                  </a:lnTo>
                  <a:lnTo>
                    <a:pt x="408" y="545"/>
                  </a:lnTo>
                  <a:lnTo>
                    <a:pt x="408" y="499"/>
                  </a:lnTo>
                  <a:lnTo>
                    <a:pt x="272" y="499"/>
                  </a:lnTo>
                  <a:lnTo>
                    <a:pt x="272" y="409"/>
                  </a:lnTo>
                  <a:lnTo>
                    <a:pt x="454" y="409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6880" y="5084640"/>
              <a:ext cx="21600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360520" y="4795920"/>
            <a:ext cx="1479960" cy="1482120"/>
            <a:chOff x="2360520" y="4795920"/>
            <a:chExt cx="1479960" cy="1482120"/>
          </a:xfrm>
        </p:grpSpPr>
        <p:grpSp>
          <p:nvGrpSpPr>
            <p:cNvPr id="247" name=""/>
            <p:cNvGrpSpPr/>
            <p:nvPr/>
          </p:nvGrpSpPr>
          <p:grpSpPr>
            <a:xfrm>
              <a:off x="2360520" y="4795920"/>
              <a:ext cx="1440000" cy="1439640"/>
              <a:chOff x="2360520" y="4795920"/>
              <a:chExt cx="1440000" cy="1439640"/>
            </a:xfrm>
          </p:grpSpPr>
          <p:sp>
            <p:nvSpPr>
              <p:cNvPr id="248" name=""/>
              <p:cNvSpPr/>
              <p:nvPr/>
            </p:nvSpPr>
            <p:spPr>
              <a:xfrm>
                <a:off x="2360520" y="542916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60520" y="4795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60520" y="4795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60520" y="479592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rot="1800000">
              <a:off x="2579400" y="5067360"/>
              <a:ext cx="1081080" cy="1008000"/>
            </a:xfrm>
            <a:prstGeom prst="irregularSeal2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232160" y="4795920"/>
            <a:ext cx="1440000" cy="1439640"/>
            <a:chOff x="4232160" y="4795920"/>
            <a:chExt cx="1440000" cy="1439640"/>
          </a:xfrm>
        </p:grpSpPr>
        <p:grpSp>
          <p:nvGrpSpPr>
            <p:cNvPr id="254" name=""/>
            <p:cNvGrpSpPr/>
            <p:nvPr/>
          </p:nvGrpSpPr>
          <p:grpSpPr>
            <a:xfrm>
              <a:off x="4232160" y="4795920"/>
              <a:ext cx="1440000" cy="1439640"/>
              <a:chOff x="4232160" y="4795920"/>
              <a:chExt cx="1440000" cy="1439640"/>
            </a:xfrm>
          </p:grpSpPr>
          <p:sp>
            <p:nvSpPr>
              <p:cNvPr id="255" name=""/>
              <p:cNvSpPr/>
              <p:nvPr/>
            </p:nvSpPr>
            <p:spPr>
              <a:xfrm>
                <a:off x="4232160" y="5429160"/>
                <a:ext cx="144000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32160" y="47959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32160" y="47959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32160" y="4795920"/>
                <a:ext cx="144000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4521240" y="5229360"/>
              <a:ext cx="863640" cy="86364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0" y="0"/>
                  </a:moveTo>
                  <a:lnTo>
                    <a:pt x="45" y="544"/>
                  </a:lnTo>
                  <a:lnTo>
                    <a:pt x="499" y="544"/>
                  </a:lnTo>
                  <a:lnTo>
                    <a:pt x="5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48160" y="5013360"/>
              <a:ext cx="1009800" cy="144360"/>
            </a:xfrm>
            <a:custGeom>
              <a:avLst/>
              <a:gdLst/>
              <a:ahLst/>
              <a:rect l="l" t="t" r="r" b="b"/>
              <a:pathLst>
                <a:path w="636" h="136">
                  <a:moveTo>
                    <a:pt x="636" y="136"/>
                  </a:moveTo>
                  <a:lnTo>
                    <a:pt x="0" y="136"/>
                  </a:lnTo>
                  <a:lnTo>
                    <a:pt x="0" y="45"/>
                  </a:lnTo>
                  <a:lnTo>
                    <a:pt x="227" y="45"/>
                  </a:lnTo>
                  <a:lnTo>
                    <a:pt x="227" y="0"/>
                  </a:lnTo>
                  <a:lnTo>
                    <a:pt x="409" y="0"/>
                  </a:lnTo>
                  <a:lnTo>
                    <a:pt x="409" y="45"/>
                  </a:lnTo>
                  <a:lnTo>
                    <a:pt x="636" y="45"/>
                  </a:lnTo>
                  <a:lnTo>
                    <a:pt x="636" y="13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977240" y="2851200"/>
            <a:ext cx="1439640" cy="1439640"/>
            <a:chOff x="7977240" y="2851200"/>
            <a:chExt cx="1439640" cy="1439640"/>
          </a:xfrm>
        </p:grpSpPr>
        <p:grpSp>
          <p:nvGrpSpPr>
            <p:cNvPr id="262" name=""/>
            <p:cNvGrpSpPr/>
            <p:nvPr/>
          </p:nvGrpSpPr>
          <p:grpSpPr>
            <a:xfrm>
              <a:off x="7977240" y="2851200"/>
              <a:ext cx="1439640" cy="1439640"/>
              <a:chOff x="7977240" y="2851200"/>
              <a:chExt cx="1439640" cy="1439640"/>
            </a:xfrm>
          </p:grpSpPr>
          <p:sp>
            <p:nvSpPr>
              <p:cNvPr id="263" name=""/>
              <p:cNvSpPr/>
              <p:nvPr/>
            </p:nvSpPr>
            <p:spPr>
              <a:xfrm>
                <a:off x="7977240" y="3484440"/>
                <a:ext cx="143964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77240" y="2851200"/>
                <a:ext cx="143964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77240" y="2851200"/>
                <a:ext cx="143964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977240" y="2851200"/>
                <a:ext cx="143964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8121600" y="2997360"/>
              <a:ext cx="1152720" cy="1152360"/>
            </a:xfrm>
            <a:prstGeom prst="sun">
              <a:avLst>
                <a:gd name="adj" fmla="val 2029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03800" y="4794120"/>
            <a:ext cx="1440000" cy="1440000"/>
            <a:chOff x="6103800" y="4794120"/>
            <a:chExt cx="1440000" cy="1440000"/>
          </a:xfrm>
        </p:grpSpPr>
        <p:grpSp>
          <p:nvGrpSpPr>
            <p:cNvPr id="269" name=""/>
            <p:cNvGrpSpPr/>
            <p:nvPr/>
          </p:nvGrpSpPr>
          <p:grpSpPr>
            <a:xfrm>
              <a:off x="6103800" y="4794120"/>
              <a:ext cx="1440000" cy="1440000"/>
              <a:chOff x="6103800" y="4794120"/>
              <a:chExt cx="1440000" cy="1440000"/>
            </a:xfrm>
          </p:grpSpPr>
          <p:sp>
            <p:nvSpPr>
              <p:cNvPr id="270" name=""/>
              <p:cNvSpPr/>
              <p:nvPr/>
            </p:nvSpPr>
            <p:spPr>
              <a:xfrm>
                <a:off x="6103800" y="5427720"/>
                <a:ext cx="1440000" cy="80640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03800" y="4794120"/>
                <a:ext cx="144000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03800" y="4794120"/>
                <a:ext cx="144000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03800" y="4794120"/>
                <a:ext cx="1440000" cy="144000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248520" y="4941720"/>
              <a:ext cx="1152360" cy="1152720"/>
            </a:xfrm>
            <a:prstGeom prst="donut">
              <a:avLst>
                <a:gd name="adj" fmla="val 8541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81960" y="5373720"/>
              <a:ext cx="287280" cy="28728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69240" y="5445000"/>
              <a:ext cx="215640" cy="144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100000">
              <a:off x="6769080" y="5190840"/>
              <a:ext cx="290520" cy="716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8" y="0"/>
                  </a:lnTo>
                  <a:lnTo>
                    <a:pt x="21600" y="10800"/>
                  </a:lnTo>
                  <a:lnTo>
                    <a:pt x="1910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977240" y="4795920"/>
            <a:ext cx="1439640" cy="1439640"/>
            <a:chOff x="7977240" y="4795920"/>
            <a:chExt cx="1439640" cy="1439640"/>
          </a:xfrm>
        </p:grpSpPr>
        <p:grpSp>
          <p:nvGrpSpPr>
            <p:cNvPr id="279" name=""/>
            <p:cNvGrpSpPr/>
            <p:nvPr/>
          </p:nvGrpSpPr>
          <p:grpSpPr>
            <a:xfrm>
              <a:off x="7977240" y="4795920"/>
              <a:ext cx="1439640" cy="1439640"/>
              <a:chOff x="7977240" y="4795920"/>
              <a:chExt cx="1439640" cy="1439640"/>
            </a:xfrm>
          </p:grpSpPr>
          <p:sp>
            <p:nvSpPr>
              <p:cNvPr id="280" name=""/>
              <p:cNvSpPr/>
              <p:nvPr/>
            </p:nvSpPr>
            <p:spPr>
              <a:xfrm>
                <a:off x="7977240" y="5429160"/>
                <a:ext cx="1439640" cy="806040"/>
              </a:xfrm>
              <a:prstGeom prst="roundRect">
                <a:avLst>
                  <a:gd name="adj" fmla="val 12440"/>
                </a:avLst>
              </a:prstGeom>
              <a:gradFill rotWithShape="0">
                <a:gsLst>
                  <a:gs pos="0">
                    <a:srgbClr val="70707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77240" y="4795920"/>
                <a:ext cx="1439640" cy="748800"/>
              </a:xfrm>
              <a:prstGeom prst="roundRect">
                <a:avLst>
                  <a:gd name="adj" fmla="val 14407"/>
                </a:avLst>
              </a:prstGeom>
              <a:gradFill rotWithShape="0">
                <a:gsLst>
                  <a:gs pos="0">
                    <a:srgbClr val="d2d2d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77240" y="4795920"/>
                <a:ext cx="1439640" cy="229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7240" y="4795920"/>
                <a:ext cx="1439640" cy="1439640"/>
              </a:xfrm>
              <a:prstGeom prst="roundRect">
                <a:avLst>
                  <a:gd name="adj" fmla="val 7407"/>
                </a:avLst>
              </a:prstGeom>
              <a:noFill/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8265960" y="5084640"/>
              <a:ext cx="863640" cy="936720"/>
            </a:xfrm>
            <a:custGeom>
              <a:avLst/>
              <a:gdLst>
                <a:gd name="textAreaLeft" fmla="*/ 203040 w 863640"/>
                <a:gd name="textAreaRight" fmla="*/ 660240 w 863640"/>
                <a:gd name="textAreaTop" fmla="*/ 110160 h 936720"/>
                <a:gd name="textAreaBottom" fmla="*/ 587520 h 936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488880" y="907920"/>
            <a:ext cx="1440000" cy="1455840"/>
            <a:chOff x="488880" y="907920"/>
            <a:chExt cx="1440000" cy="1455840"/>
          </a:xfrm>
        </p:grpSpPr>
        <p:sp>
          <p:nvSpPr>
            <p:cNvPr id="286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888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888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3440" y="105264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066" y="5836"/>
                  </a:moveTo>
                  <a:arcTo wR="-6545" hR="-6545" stAng="-2959479" swAng="-18640521"/>
                  <a:lnTo>
                    <a:pt x="0" y="10800"/>
                  </a:lnTo>
                  <a:arcTo wR="10800" hR="10800" stAng="10800000" swAng="18640521"/>
                  <a:lnTo>
                    <a:pt x="2001" y="21039"/>
                  </a:lnTo>
                  <a:lnTo>
                    <a:pt x="1486" y="14231"/>
                  </a:lnTo>
                  <a:lnTo>
                    <a:pt x="8294" y="137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60520" y="907920"/>
            <a:ext cx="1440000" cy="1455840"/>
            <a:chOff x="2360520" y="907920"/>
            <a:chExt cx="1440000" cy="1455840"/>
          </a:xfrm>
        </p:grpSpPr>
        <p:sp>
          <p:nvSpPr>
            <p:cNvPr id="292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052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052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5240" y="1052640"/>
              <a:ext cx="1152360" cy="1150920"/>
            </a:xfrm>
            <a:custGeom>
              <a:avLst/>
              <a:gdLst/>
              <a:ahLst/>
              <a:rect l="l" t="t" r="r" b="b"/>
              <a:pathLst>
                <a:path w="1089" h="725">
                  <a:moveTo>
                    <a:pt x="408" y="589"/>
                  </a:moveTo>
                  <a:lnTo>
                    <a:pt x="544" y="589"/>
                  </a:lnTo>
                  <a:lnTo>
                    <a:pt x="544" y="725"/>
                  </a:lnTo>
                  <a:lnTo>
                    <a:pt x="181" y="725"/>
                  </a:lnTo>
                  <a:lnTo>
                    <a:pt x="181" y="363"/>
                  </a:lnTo>
                  <a:lnTo>
                    <a:pt x="0" y="363"/>
                  </a:lnTo>
                  <a:lnTo>
                    <a:pt x="544" y="0"/>
                  </a:lnTo>
                  <a:lnTo>
                    <a:pt x="1089" y="363"/>
                  </a:lnTo>
                  <a:lnTo>
                    <a:pt x="907" y="363"/>
                  </a:lnTo>
                  <a:lnTo>
                    <a:pt x="907" y="725"/>
                  </a:lnTo>
                  <a:lnTo>
                    <a:pt x="544" y="725"/>
                  </a:lnTo>
                  <a:lnTo>
                    <a:pt x="544" y="589"/>
                  </a:lnTo>
                  <a:lnTo>
                    <a:pt x="680" y="589"/>
                  </a:lnTo>
                  <a:lnTo>
                    <a:pt x="680" y="363"/>
                  </a:lnTo>
                  <a:lnTo>
                    <a:pt x="408" y="363"/>
                  </a:lnTo>
                  <a:lnTo>
                    <a:pt x="408" y="58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233960" y="907920"/>
            <a:ext cx="1439640" cy="1455840"/>
            <a:chOff x="4233960" y="907920"/>
            <a:chExt cx="1439640" cy="1455840"/>
          </a:xfrm>
        </p:grpSpPr>
        <p:sp>
          <p:nvSpPr>
            <p:cNvPr id="298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3396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396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21240" y="1125360"/>
              <a:ext cx="863640" cy="1079640"/>
              <a:chOff x="4521240" y="1125360"/>
              <a:chExt cx="863640" cy="10796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21240" y="1125360"/>
                <a:ext cx="863640" cy="1079640"/>
              </a:xfrm>
              <a:prstGeom prst="foldedCorner">
                <a:avLst>
                  <a:gd name="adj" fmla="val 20402"/>
                </a:avLst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2520" y="1268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92520" y="141300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92520" y="1555920"/>
                <a:ext cx="720720" cy="7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92520" y="1700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92520" y="184464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6105600" y="907920"/>
            <a:ext cx="1439640" cy="1455840"/>
            <a:chOff x="6105600" y="907920"/>
            <a:chExt cx="1439640" cy="1455840"/>
          </a:xfrm>
        </p:grpSpPr>
        <p:sp>
          <p:nvSpPr>
            <p:cNvPr id="310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0560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560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48520" y="1052640"/>
              <a:ext cx="1152360" cy="1093680"/>
            </a:xfrm>
            <a:prstGeom prst="star5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8880" y="2852640"/>
            <a:ext cx="1440000" cy="1455840"/>
            <a:chOff x="488880" y="2852640"/>
            <a:chExt cx="1440000" cy="1455840"/>
          </a:xfrm>
        </p:grpSpPr>
        <p:sp>
          <p:nvSpPr>
            <p:cNvPr id="316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888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888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800" y="3078000"/>
              <a:ext cx="1152720" cy="927360"/>
            </a:xfrm>
            <a:prstGeom prst="wedgeEllipseCallout">
              <a:avLst>
                <a:gd name="adj1" fmla="val -38569"/>
                <a:gd name="adj2" fmla="val 5787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360520" y="2852640"/>
            <a:ext cx="1440000" cy="1455840"/>
            <a:chOff x="2360520" y="2852640"/>
            <a:chExt cx="1440000" cy="1455840"/>
          </a:xfrm>
        </p:grpSpPr>
        <p:sp>
          <p:nvSpPr>
            <p:cNvPr id="322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6052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052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5240" y="3141720"/>
              <a:ext cx="1152360" cy="934920"/>
            </a:xfrm>
            <a:prstGeom prst="flowChartMultidocumen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88880" y="4797360"/>
            <a:ext cx="1440000" cy="1455840"/>
            <a:chOff x="488880" y="4797360"/>
            <a:chExt cx="1440000" cy="1455840"/>
          </a:xfrm>
        </p:grpSpPr>
        <p:sp>
          <p:nvSpPr>
            <p:cNvPr id="328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888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888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4880" y="5084640"/>
              <a:ext cx="1008000" cy="865440"/>
            </a:xfrm>
            <a:custGeom>
              <a:avLst/>
              <a:gdLst/>
              <a:ahLst/>
              <a:rect l="l" t="t" r="r" b="b"/>
              <a:pathLst>
                <a:path w="681" h="545">
                  <a:moveTo>
                    <a:pt x="681" y="545"/>
                  </a:moveTo>
                  <a:lnTo>
                    <a:pt x="0" y="545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363" y="0"/>
                  </a:lnTo>
                  <a:lnTo>
                    <a:pt x="416" y="91"/>
                  </a:lnTo>
                  <a:lnTo>
                    <a:pt x="681" y="91"/>
                  </a:lnTo>
                  <a:lnTo>
                    <a:pt x="681" y="54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360520" y="4797360"/>
            <a:ext cx="1440000" cy="1455840"/>
            <a:chOff x="2360520" y="4797360"/>
            <a:chExt cx="1440000" cy="1455840"/>
          </a:xfrm>
        </p:grpSpPr>
        <p:sp>
          <p:nvSpPr>
            <p:cNvPr id="334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052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76520" y="5013360"/>
              <a:ext cx="1008000" cy="1008000"/>
            </a:xfrm>
            <a:prstGeom prst="donut">
              <a:avLst>
                <a:gd name="adj" fmla="val 3793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233960" y="4797360"/>
            <a:ext cx="1439640" cy="1455840"/>
            <a:chOff x="4233960" y="4797360"/>
            <a:chExt cx="1439640" cy="1455840"/>
          </a:xfrm>
        </p:grpSpPr>
        <p:sp>
          <p:nvSpPr>
            <p:cNvPr id="340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3396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3396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8160" y="5084640"/>
              <a:ext cx="1009800" cy="93672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233960" y="2852640"/>
            <a:ext cx="1439640" cy="1455840"/>
            <a:chOff x="4233960" y="2852640"/>
            <a:chExt cx="1439640" cy="1455840"/>
          </a:xfrm>
        </p:grpSpPr>
        <p:sp>
          <p:nvSpPr>
            <p:cNvPr id="346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3396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396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76880" y="3068640"/>
              <a:ext cx="1152360" cy="1081080"/>
            </a:xfrm>
            <a:custGeom>
              <a:avLst/>
              <a:gdLst>
                <a:gd name="textAreaLeft" fmla="*/ 180000 w 1152360"/>
                <a:gd name="textAreaRight" fmla="*/ 868320 w 1152360"/>
                <a:gd name="textAreaTop" fmla="*/ 218880 h 1081080"/>
                <a:gd name="textAreaBottom" fmla="*/ 8622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377"/>
                  </a:moveTo>
                  <a:lnTo>
                    <a:pt x="12645" y="4377"/>
                  </a:lnTo>
                  <a:lnTo>
                    <a:pt x="12645" y="0"/>
                  </a:lnTo>
                  <a:lnTo>
                    <a:pt x="21600" y="10800"/>
                  </a:lnTo>
                  <a:lnTo>
                    <a:pt x="12645" y="21600"/>
                  </a:lnTo>
                  <a:lnTo>
                    <a:pt x="12645" y="17223"/>
                  </a:lnTo>
                  <a:lnTo>
                    <a:pt x="3375" y="17223"/>
                  </a:lnTo>
                  <a:close/>
                </a:path>
                <a:path w="21600" h="21600">
                  <a:moveTo>
                    <a:pt x="0" y="4377"/>
                  </a:moveTo>
                  <a:lnTo>
                    <a:pt x="675" y="4377"/>
                  </a:lnTo>
                  <a:lnTo>
                    <a:pt x="675" y="17223"/>
                  </a:lnTo>
                  <a:lnTo>
                    <a:pt x="0" y="17223"/>
                  </a:lnTo>
                  <a:close/>
                </a:path>
                <a:path w="21600" h="21600">
                  <a:moveTo>
                    <a:pt x="1350" y="4377"/>
                  </a:moveTo>
                  <a:lnTo>
                    <a:pt x="2700" y="4377"/>
                  </a:lnTo>
                  <a:lnTo>
                    <a:pt x="2700" y="17223"/>
                  </a:lnTo>
                  <a:lnTo>
                    <a:pt x="1350" y="17223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105600" y="2852640"/>
            <a:ext cx="1439640" cy="1455840"/>
            <a:chOff x="6105600" y="2852640"/>
            <a:chExt cx="1439640" cy="1455840"/>
          </a:xfrm>
        </p:grpSpPr>
        <p:sp>
          <p:nvSpPr>
            <p:cNvPr id="352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560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0560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600" y="3068640"/>
              <a:ext cx="1008000" cy="1081080"/>
            </a:xfrm>
            <a:prstGeom prst="can">
              <a:avLst>
                <a:gd name="adj" fmla="val 4135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05600" y="4797360"/>
            <a:ext cx="1439640" cy="1455840"/>
            <a:chOff x="6105600" y="4797360"/>
            <a:chExt cx="1439640" cy="1455840"/>
          </a:xfrm>
        </p:grpSpPr>
        <p:sp>
          <p:nvSpPr>
            <p:cNvPr id="358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0560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0560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1600" y="5013360"/>
              <a:ext cx="1008000" cy="1008000"/>
            </a:xfrm>
            <a:prstGeom prst="donut">
              <a:avLst>
                <a:gd name="adj" fmla="val 16148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977240" y="4797360"/>
            <a:ext cx="1439640" cy="1455840"/>
            <a:chOff x="7977240" y="4797360"/>
            <a:chExt cx="1439640" cy="1455840"/>
          </a:xfrm>
        </p:grpSpPr>
        <p:sp>
          <p:nvSpPr>
            <p:cNvPr id="364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7724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7724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700000">
              <a:off x="8193240" y="5013000"/>
              <a:ext cx="1008000" cy="1008000"/>
            </a:xfrm>
            <a:prstGeom prst="plus">
              <a:avLst>
                <a:gd name="adj" fmla="val 4209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977240" y="907920"/>
            <a:ext cx="1439640" cy="1455840"/>
            <a:chOff x="7977240" y="907920"/>
            <a:chExt cx="1439640" cy="1455840"/>
          </a:xfrm>
        </p:grpSpPr>
        <p:sp>
          <p:nvSpPr>
            <p:cNvPr id="370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7724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7724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65960" y="1268280"/>
              <a:ext cx="57636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13960" y="1123920"/>
              <a:ext cx="215640" cy="998640"/>
            </a:xfrm>
            <a:custGeom>
              <a:avLst/>
              <a:gdLst/>
              <a:ahLst/>
              <a:rect l="l" t="t" r="r" b="b"/>
              <a:pathLst>
                <a:path w="136" h="681">
                  <a:moveTo>
                    <a:pt x="0" y="681"/>
                  </a:moveTo>
                  <a:lnTo>
                    <a:pt x="0" y="91"/>
                  </a:lnTo>
                  <a:lnTo>
                    <a:pt x="136" y="0"/>
                  </a:lnTo>
                  <a:lnTo>
                    <a:pt x="136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977240" y="2852640"/>
            <a:ext cx="1439640" cy="1455840"/>
            <a:chOff x="7977240" y="2852640"/>
            <a:chExt cx="1439640" cy="1455840"/>
          </a:xfrm>
        </p:grpSpPr>
        <p:sp>
          <p:nvSpPr>
            <p:cNvPr id="377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7724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7724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93240" y="3068640"/>
              <a:ext cx="1079280" cy="1008000"/>
            </a:xfrm>
            <a:custGeom>
              <a:avLst/>
              <a:gdLst>
                <a:gd name="textAreaLeft" fmla="*/ 428400 w 1079280"/>
                <a:gd name="textAreaRight" fmla="*/ 887400 w 1079280"/>
                <a:gd name="textAreaTop" fmla="*/ 615240 h 1008000"/>
                <a:gd name="textAreaBottom" fmla="*/ 828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028"/>
                  </a:moveTo>
                  <a:lnTo>
                    <a:pt x="13184" y="17028"/>
                  </a:lnTo>
                  <a:lnTo>
                    <a:pt x="13184" y="8572"/>
                  </a:lnTo>
                  <a:lnTo>
                    <a:pt x="9340" y="8572"/>
                  </a:lnTo>
                  <a:lnTo>
                    <a:pt x="15470" y="0"/>
                  </a:lnTo>
                  <a:lnTo>
                    <a:pt x="21600" y="8572"/>
                  </a:lnTo>
                  <a:lnTo>
                    <a:pt x="17756" y="8572"/>
                  </a:lnTo>
                  <a:lnTo>
                    <a:pt x="1775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488880" y="907920"/>
            <a:ext cx="1440000" cy="1455840"/>
            <a:chOff x="488880" y="907920"/>
            <a:chExt cx="1440000" cy="1455840"/>
          </a:xfrm>
        </p:grpSpPr>
        <p:sp>
          <p:nvSpPr>
            <p:cNvPr id="383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888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888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9800000">
              <a:off x="898200" y="1047600"/>
              <a:ext cx="625320" cy="1190880"/>
            </a:xfrm>
            <a:prstGeom prst="upArrow">
              <a:avLst>
                <a:gd name="adj1" fmla="val 29556"/>
                <a:gd name="adj2" fmla="val 9806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8880" y="2852640"/>
            <a:ext cx="1440000" cy="1455840"/>
            <a:chOff x="488880" y="2852640"/>
            <a:chExt cx="1440000" cy="1455840"/>
          </a:xfrm>
        </p:grpSpPr>
        <p:sp>
          <p:nvSpPr>
            <p:cNvPr id="389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888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888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49240" y="2997360"/>
              <a:ext cx="673200" cy="1159920"/>
              <a:chOff x="849240" y="2997360"/>
              <a:chExt cx="673200" cy="115992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920160" y="3125520"/>
                <a:ext cx="601920" cy="1031760"/>
                <a:chOff x="920160" y="3125520"/>
                <a:chExt cx="601920" cy="10317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920160" y="3125520"/>
                  <a:ext cx="601920" cy="103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061280" y="3254400"/>
                  <a:ext cx="318240" cy="102600"/>
                </a:xfrm>
                <a:prstGeom prst="rect">
                  <a:avLst/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849240" y="3022920"/>
                <a:ext cx="28332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310040" y="2997360"/>
                <a:ext cx="21240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360520" y="2852640"/>
            <a:ext cx="1440000" cy="1455840"/>
            <a:chOff x="2360520" y="2852640"/>
            <a:chExt cx="1440000" cy="1455840"/>
          </a:xfrm>
        </p:grpSpPr>
        <p:sp>
          <p:nvSpPr>
            <p:cNvPr id="400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052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052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49600" y="3141720"/>
              <a:ext cx="934920" cy="934920"/>
            </a:xfrm>
            <a:prstGeom prst="lightningBol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360520" y="907920"/>
            <a:ext cx="1440000" cy="1455840"/>
            <a:chOff x="2360520" y="907920"/>
            <a:chExt cx="1440000" cy="1455840"/>
          </a:xfrm>
        </p:grpSpPr>
        <p:sp>
          <p:nvSpPr>
            <p:cNvPr id="406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6052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052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6520" y="1125360"/>
              <a:ext cx="1008000" cy="1008360"/>
            </a:xfrm>
            <a:prstGeom prst="noSmoking">
              <a:avLst>
                <a:gd name="adj" fmla="val 125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233960" y="907920"/>
            <a:ext cx="1439640" cy="1455840"/>
            <a:chOff x="4233960" y="907920"/>
            <a:chExt cx="1439640" cy="1455840"/>
          </a:xfrm>
        </p:grpSpPr>
        <p:sp>
          <p:nvSpPr>
            <p:cNvPr id="412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3396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3396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65600" y="1125360"/>
              <a:ext cx="576360" cy="10796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81" y="0"/>
                  </a:moveTo>
                  <a:lnTo>
                    <a:pt x="0" y="454"/>
                  </a:lnTo>
                  <a:cubicBezTo>
                    <a:pt x="0" y="560"/>
                    <a:pt x="121" y="635"/>
                    <a:pt x="181" y="635"/>
                  </a:cubicBezTo>
                  <a:cubicBezTo>
                    <a:pt x="241" y="635"/>
                    <a:pt x="363" y="560"/>
                    <a:pt x="363" y="454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233960" y="2852640"/>
            <a:ext cx="1439640" cy="1455840"/>
            <a:chOff x="4233960" y="2852640"/>
            <a:chExt cx="1439640" cy="1455840"/>
          </a:xfrm>
        </p:grpSpPr>
        <p:sp>
          <p:nvSpPr>
            <p:cNvPr id="418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3396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3396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19440" y="3068640"/>
              <a:ext cx="865440" cy="865080"/>
            </a:xfrm>
            <a:prstGeom prst="blockArc">
              <a:avLst>
                <a:gd name="adj1" fmla="val 10960394"/>
                <a:gd name="adj2" fmla="val 21439606"/>
                <a:gd name="adj3" fmla="val 2052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11800" y="3500280"/>
              <a:ext cx="1081080" cy="649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105600" y="907920"/>
            <a:ext cx="1439640" cy="1455840"/>
            <a:chOff x="6105600" y="907920"/>
            <a:chExt cx="1439640" cy="1455840"/>
          </a:xfrm>
        </p:grpSpPr>
        <p:sp>
          <p:nvSpPr>
            <p:cNvPr id="425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0560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392880" y="1125360"/>
              <a:ext cx="946080" cy="1089000"/>
              <a:chOff x="6392880" y="1125360"/>
              <a:chExt cx="946080" cy="1089000"/>
            </a:xfrm>
          </p:grpSpPr>
          <p:sp>
            <p:nvSpPr>
              <p:cNvPr id="430" name=""/>
              <p:cNvSpPr/>
              <p:nvPr/>
            </p:nvSpPr>
            <p:spPr>
              <a:xfrm>
                <a:off x="6392880" y="1363680"/>
                <a:ext cx="946080" cy="850680"/>
              </a:xfrm>
              <a:custGeom>
                <a:avLst/>
                <a:gdLst/>
                <a:ahLst/>
                <a:rect l="l" t="t" r="r" b="b"/>
                <a:pathLst>
                  <a:path w="908" h="816">
                    <a:moveTo>
                      <a:pt x="136" y="181"/>
                    </a:moveTo>
                    <a:lnTo>
                      <a:pt x="0" y="181"/>
                    </a:lnTo>
                    <a:lnTo>
                      <a:pt x="0" y="272"/>
                    </a:lnTo>
                    <a:lnTo>
                      <a:pt x="182" y="272"/>
                    </a:lnTo>
                    <a:lnTo>
                      <a:pt x="273" y="181"/>
                    </a:lnTo>
                    <a:lnTo>
                      <a:pt x="363" y="363"/>
                    </a:lnTo>
                    <a:lnTo>
                      <a:pt x="136" y="816"/>
                    </a:lnTo>
                    <a:lnTo>
                      <a:pt x="273" y="816"/>
                    </a:lnTo>
                    <a:lnTo>
                      <a:pt x="468" y="418"/>
                    </a:lnTo>
                    <a:lnTo>
                      <a:pt x="499" y="680"/>
                    </a:lnTo>
                    <a:lnTo>
                      <a:pt x="908" y="680"/>
                    </a:lnTo>
                    <a:lnTo>
                      <a:pt x="855" y="568"/>
                    </a:lnTo>
                    <a:lnTo>
                      <a:pt x="597" y="568"/>
                    </a:lnTo>
                    <a:lnTo>
                      <a:pt x="590" y="317"/>
                    </a:lnTo>
                    <a:lnTo>
                      <a:pt x="454" y="91"/>
                    </a:lnTo>
                    <a:lnTo>
                      <a:pt x="590" y="91"/>
                    </a:lnTo>
                    <a:lnTo>
                      <a:pt x="681" y="272"/>
                    </a:lnTo>
                    <a:lnTo>
                      <a:pt x="771" y="227"/>
                    </a:lnTo>
                    <a:lnTo>
                      <a:pt x="635" y="0"/>
                    </a:lnTo>
                    <a:lnTo>
                      <a:pt x="273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81880" y="1125360"/>
                <a:ext cx="236520" cy="2365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6105600" y="2852640"/>
            <a:ext cx="1439640" cy="1455840"/>
            <a:chOff x="6105600" y="2852640"/>
            <a:chExt cx="1439640" cy="1455840"/>
          </a:xfrm>
        </p:grpSpPr>
        <p:sp>
          <p:nvSpPr>
            <p:cNvPr id="433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0560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0560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6465960" y="3068640"/>
              <a:ext cx="76824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 Black"/>
                </a:rPr>
                <a:t>?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929000" y="907920"/>
            <a:ext cx="1487880" cy="1497600"/>
            <a:chOff x="7929000" y="907920"/>
            <a:chExt cx="1487880" cy="1497600"/>
          </a:xfrm>
        </p:grpSpPr>
        <p:sp>
          <p:nvSpPr>
            <p:cNvPr id="439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724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7724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700000">
              <a:off x="8273520" y="1111320"/>
              <a:ext cx="652680" cy="1245960"/>
            </a:xfrm>
            <a:custGeom>
              <a:avLst/>
              <a:gdLst/>
              <a:ahLst/>
              <a:rect l="l" t="t" r="r" b="b"/>
              <a:pathLst>
                <a:path w="499" h="953">
                  <a:moveTo>
                    <a:pt x="182" y="454"/>
                  </a:moveTo>
                  <a:lnTo>
                    <a:pt x="181" y="862"/>
                  </a:lnTo>
                  <a:lnTo>
                    <a:pt x="227" y="953"/>
                  </a:lnTo>
                  <a:lnTo>
                    <a:pt x="272" y="953"/>
                  </a:lnTo>
                  <a:lnTo>
                    <a:pt x="318" y="862"/>
                  </a:lnTo>
                  <a:lnTo>
                    <a:pt x="318" y="771"/>
                  </a:lnTo>
                  <a:lnTo>
                    <a:pt x="272" y="771"/>
                  </a:lnTo>
                  <a:lnTo>
                    <a:pt x="272" y="726"/>
                  </a:lnTo>
                  <a:lnTo>
                    <a:pt x="318" y="681"/>
                  </a:lnTo>
                  <a:lnTo>
                    <a:pt x="272" y="635"/>
                  </a:lnTo>
                  <a:lnTo>
                    <a:pt x="318" y="590"/>
                  </a:lnTo>
                  <a:lnTo>
                    <a:pt x="318" y="545"/>
                  </a:lnTo>
                  <a:lnTo>
                    <a:pt x="272" y="545"/>
                  </a:lnTo>
                  <a:lnTo>
                    <a:pt x="272" y="454"/>
                  </a:lnTo>
                  <a:lnTo>
                    <a:pt x="454" y="454"/>
                  </a:lnTo>
                  <a:lnTo>
                    <a:pt x="499" y="408"/>
                  </a:lnTo>
                  <a:lnTo>
                    <a:pt x="499" y="46"/>
                  </a:lnTo>
                  <a:lnTo>
                    <a:pt x="454" y="0"/>
                  </a:lnTo>
                  <a:lnTo>
                    <a:pt x="46" y="0"/>
                  </a:lnTo>
                  <a:lnTo>
                    <a:pt x="0" y="46"/>
                  </a:lnTo>
                  <a:lnTo>
                    <a:pt x="0" y="408"/>
                  </a:lnTo>
                  <a:lnTo>
                    <a:pt x="46" y="454"/>
                  </a:lnTo>
                  <a:lnTo>
                    <a:pt x="182" y="454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88880" y="4797360"/>
            <a:ext cx="1440000" cy="1455840"/>
            <a:chOff x="488880" y="4797360"/>
            <a:chExt cx="1440000" cy="1455840"/>
          </a:xfrm>
        </p:grpSpPr>
        <p:sp>
          <p:nvSpPr>
            <p:cNvPr id="445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88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888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4880" y="5084640"/>
              <a:ext cx="720720" cy="865440"/>
            </a:xfrm>
            <a:custGeom>
              <a:avLst/>
              <a:gdLst/>
              <a:ahLst/>
              <a:rect l="l" t="t" r="r" b="b"/>
              <a:pathLst>
                <a:path w="454" h="545">
                  <a:moveTo>
                    <a:pt x="454" y="0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82" y="409"/>
                  </a:lnTo>
                  <a:lnTo>
                    <a:pt x="182" y="499"/>
                  </a:lnTo>
                  <a:lnTo>
                    <a:pt x="46" y="499"/>
                  </a:lnTo>
                  <a:lnTo>
                    <a:pt x="46" y="545"/>
                  </a:lnTo>
                  <a:lnTo>
                    <a:pt x="408" y="545"/>
                  </a:lnTo>
                  <a:lnTo>
                    <a:pt x="408" y="499"/>
                  </a:lnTo>
                  <a:lnTo>
                    <a:pt x="272" y="499"/>
                  </a:lnTo>
                  <a:lnTo>
                    <a:pt x="272" y="409"/>
                  </a:lnTo>
                  <a:lnTo>
                    <a:pt x="454" y="409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96880" y="5084640"/>
              <a:ext cx="21600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360520" y="4797360"/>
            <a:ext cx="1479960" cy="1480680"/>
            <a:chOff x="2360520" y="4797360"/>
            <a:chExt cx="1479960" cy="1480680"/>
          </a:xfrm>
        </p:grpSpPr>
        <p:sp>
          <p:nvSpPr>
            <p:cNvPr id="452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6052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052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407"/>
              </a:avLst>
            </a:pr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800000">
              <a:off x="2579400" y="5067360"/>
              <a:ext cx="1081080" cy="1008000"/>
            </a:xfrm>
            <a:prstGeom prst="irregularSeal2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233960" y="4797360"/>
            <a:ext cx="1439640" cy="1455840"/>
            <a:chOff x="4233960" y="4797360"/>
            <a:chExt cx="1439640" cy="1455840"/>
          </a:xfrm>
        </p:grpSpPr>
        <p:sp>
          <p:nvSpPr>
            <p:cNvPr id="458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3396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3396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21240" y="5229360"/>
              <a:ext cx="863640" cy="86364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0" y="0"/>
                  </a:moveTo>
                  <a:lnTo>
                    <a:pt x="45" y="544"/>
                  </a:lnTo>
                  <a:lnTo>
                    <a:pt x="499" y="544"/>
                  </a:lnTo>
                  <a:lnTo>
                    <a:pt x="5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48160" y="5013360"/>
              <a:ext cx="1009800" cy="144360"/>
            </a:xfrm>
            <a:custGeom>
              <a:avLst/>
              <a:gdLst/>
              <a:ahLst/>
              <a:rect l="l" t="t" r="r" b="b"/>
              <a:pathLst>
                <a:path w="636" h="136">
                  <a:moveTo>
                    <a:pt x="636" y="136"/>
                  </a:moveTo>
                  <a:lnTo>
                    <a:pt x="0" y="136"/>
                  </a:lnTo>
                  <a:lnTo>
                    <a:pt x="0" y="45"/>
                  </a:lnTo>
                  <a:lnTo>
                    <a:pt x="227" y="45"/>
                  </a:lnTo>
                  <a:lnTo>
                    <a:pt x="227" y="0"/>
                  </a:lnTo>
                  <a:lnTo>
                    <a:pt x="409" y="0"/>
                  </a:lnTo>
                  <a:lnTo>
                    <a:pt x="409" y="45"/>
                  </a:lnTo>
                  <a:lnTo>
                    <a:pt x="636" y="45"/>
                  </a:lnTo>
                  <a:lnTo>
                    <a:pt x="636" y="13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977240" y="2852640"/>
            <a:ext cx="1439640" cy="1455840"/>
            <a:chOff x="7977240" y="2852640"/>
            <a:chExt cx="1439640" cy="1455840"/>
          </a:xfrm>
        </p:grpSpPr>
        <p:sp>
          <p:nvSpPr>
            <p:cNvPr id="465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7724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7724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21600" y="2997360"/>
              <a:ext cx="1152720" cy="1152360"/>
            </a:xfrm>
            <a:prstGeom prst="sun">
              <a:avLst>
                <a:gd name="adj" fmla="val 2029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105600" y="4797360"/>
            <a:ext cx="1439640" cy="1455840"/>
            <a:chOff x="6105600" y="4797360"/>
            <a:chExt cx="1439640" cy="1455840"/>
          </a:xfrm>
        </p:grpSpPr>
        <p:sp>
          <p:nvSpPr>
            <p:cNvPr id="471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0560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0560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8520" y="4941720"/>
              <a:ext cx="1152360" cy="1152720"/>
            </a:xfrm>
            <a:prstGeom prst="donut">
              <a:avLst>
                <a:gd name="adj" fmla="val 8541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81960" y="5373720"/>
              <a:ext cx="287280" cy="28728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69240" y="5445000"/>
              <a:ext cx="215640" cy="144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7100000">
              <a:off x="6769080" y="5190840"/>
              <a:ext cx="290520" cy="716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8" y="0"/>
                  </a:lnTo>
                  <a:lnTo>
                    <a:pt x="21600" y="10800"/>
                  </a:lnTo>
                  <a:lnTo>
                    <a:pt x="1910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977240" y="4797360"/>
            <a:ext cx="1439640" cy="1455840"/>
            <a:chOff x="7977240" y="4797360"/>
            <a:chExt cx="1439640" cy="1455840"/>
          </a:xfrm>
        </p:grpSpPr>
        <p:sp>
          <p:nvSpPr>
            <p:cNvPr id="480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7724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7724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0960 w 1439640"/>
                <a:gd name="textAreaRight" fmla="*/ 1408680 w 1439640"/>
                <a:gd name="textAreaTop" fmla="*/ 30960 h 1440000"/>
                <a:gd name="textAreaBottom" fmla="*/ 14090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00" y="0"/>
                  </a:moveTo>
                  <a:arcTo wR="1600" hR="1600" stAng="16200000" swAng="-5400000"/>
                  <a:lnTo>
                    <a:pt x="0" y="20005"/>
                  </a:lnTo>
                  <a:arcTo wR="1600" hR="1600" stAng="10800000" swAng="-5400000"/>
                  <a:lnTo>
                    <a:pt x="20000" y="21605"/>
                  </a:lnTo>
                  <a:arcTo wR="1600" hR="1600" stAng="5400000" swAng="-5400000"/>
                  <a:lnTo>
                    <a:pt x="21600" y="1600"/>
                  </a:lnTo>
                  <a:arcTo wR="1600" hR="1600" stAng="0" swAng="-5400000"/>
                  <a:close/>
                </a:path>
              </a:pathLst>
            </a:custGeom>
            <a:noFill/>
            <a:ln w="63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65960" y="5084640"/>
              <a:ext cx="863640" cy="936720"/>
            </a:xfrm>
            <a:custGeom>
              <a:avLst/>
              <a:gdLst>
                <a:gd name="textAreaLeft" fmla="*/ 203040 w 863640"/>
                <a:gd name="textAreaRight" fmla="*/ 660240 w 863640"/>
                <a:gd name="textAreaTop" fmla="*/ 110160 h 936720"/>
                <a:gd name="textAreaBottom" fmla="*/ 587520 h 936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488880" y="907920"/>
            <a:ext cx="1440000" cy="1455840"/>
            <a:chOff x="488880" y="907920"/>
            <a:chExt cx="1440000" cy="1455840"/>
          </a:xfrm>
        </p:grpSpPr>
        <p:sp>
          <p:nvSpPr>
            <p:cNvPr id="486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888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888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1123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066" y="5836"/>
                  </a:moveTo>
                  <a:arcTo wR="-6545" hR="-6545" stAng="-2959479" swAng="-18640521"/>
                  <a:lnTo>
                    <a:pt x="0" y="10800"/>
                  </a:lnTo>
                  <a:arcTo wR="10800" hR="10800" stAng="10800000" swAng="18640521"/>
                  <a:lnTo>
                    <a:pt x="2001" y="21039"/>
                  </a:lnTo>
                  <a:lnTo>
                    <a:pt x="1486" y="14231"/>
                  </a:lnTo>
                  <a:lnTo>
                    <a:pt x="8294" y="137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360520" y="907920"/>
            <a:ext cx="1440000" cy="1455840"/>
            <a:chOff x="2360520" y="907920"/>
            <a:chExt cx="1440000" cy="1455840"/>
          </a:xfrm>
        </p:grpSpPr>
        <p:sp>
          <p:nvSpPr>
            <p:cNvPr id="491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052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6052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05240" y="1052640"/>
              <a:ext cx="1152360" cy="1150920"/>
            </a:xfrm>
            <a:custGeom>
              <a:avLst/>
              <a:gdLst/>
              <a:ahLst/>
              <a:rect l="l" t="t" r="r" b="b"/>
              <a:pathLst>
                <a:path w="1089" h="725">
                  <a:moveTo>
                    <a:pt x="408" y="589"/>
                  </a:moveTo>
                  <a:lnTo>
                    <a:pt x="544" y="589"/>
                  </a:lnTo>
                  <a:lnTo>
                    <a:pt x="544" y="725"/>
                  </a:lnTo>
                  <a:lnTo>
                    <a:pt x="181" y="725"/>
                  </a:lnTo>
                  <a:lnTo>
                    <a:pt x="181" y="363"/>
                  </a:lnTo>
                  <a:lnTo>
                    <a:pt x="0" y="363"/>
                  </a:lnTo>
                  <a:lnTo>
                    <a:pt x="544" y="0"/>
                  </a:lnTo>
                  <a:lnTo>
                    <a:pt x="1089" y="363"/>
                  </a:lnTo>
                  <a:lnTo>
                    <a:pt x="907" y="363"/>
                  </a:lnTo>
                  <a:lnTo>
                    <a:pt x="907" y="725"/>
                  </a:lnTo>
                  <a:lnTo>
                    <a:pt x="544" y="725"/>
                  </a:lnTo>
                  <a:lnTo>
                    <a:pt x="544" y="589"/>
                  </a:lnTo>
                  <a:lnTo>
                    <a:pt x="680" y="589"/>
                  </a:lnTo>
                  <a:lnTo>
                    <a:pt x="680" y="363"/>
                  </a:lnTo>
                  <a:lnTo>
                    <a:pt x="408" y="363"/>
                  </a:lnTo>
                  <a:lnTo>
                    <a:pt x="408" y="58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233960" y="907920"/>
            <a:ext cx="1439640" cy="1455840"/>
            <a:chOff x="4233960" y="907920"/>
            <a:chExt cx="1439640" cy="1455840"/>
          </a:xfrm>
        </p:grpSpPr>
        <p:sp>
          <p:nvSpPr>
            <p:cNvPr id="496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396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3396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4521240" y="1125360"/>
              <a:ext cx="863640" cy="1079640"/>
              <a:chOff x="4521240" y="1125360"/>
              <a:chExt cx="863640" cy="1079640"/>
            </a:xfrm>
          </p:grpSpPr>
          <p:sp>
            <p:nvSpPr>
              <p:cNvPr id="500" name=""/>
              <p:cNvSpPr/>
              <p:nvPr/>
            </p:nvSpPr>
            <p:spPr>
              <a:xfrm>
                <a:off x="4521240" y="1125360"/>
                <a:ext cx="863640" cy="1079640"/>
              </a:xfrm>
              <a:prstGeom prst="foldedCorner">
                <a:avLst>
                  <a:gd name="adj" fmla="val 20402"/>
                </a:avLst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2520" y="1268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2520" y="141300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2520" y="1555920"/>
                <a:ext cx="720720" cy="7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2520" y="1700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2520" y="184464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6105600" y="907920"/>
            <a:ext cx="1439640" cy="1455840"/>
            <a:chOff x="6105600" y="907920"/>
            <a:chExt cx="1439640" cy="1455840"/>
          </a:xfrm>
        </p:grpSpPr>
        <p:sp>
          <p:nvSpPr>
            <p:cNvPr id="507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0560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0560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48520" y="1052640"/>
              <a:ext cx="1152360" cy="1093680"/>
            </a:xfrm>
            <a:prstGeom prst="star5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88880" y="2852640"/>
            <a:ext cx="1440000" cy="1455840"/>
            <a:chOff x="488880" y="2852640"/>
            <a:chExt cx="1440000" cy="1455840"/>
          </a:xfrm>
        </p:grpSpPr>
        <p:sp>
          <p:nvSpPr>
            <p:cNvPr id="512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888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888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1800" y="3078000"/>
              <a:ext cx="1152720" cy="927360"/>
            </a:xfrm>
            <a:prstGeom prst="wedgeEllipseCallout">
              <a:avLst>
                <a:gd name="adj1" fmla="val -38569"/>
                <a:gd name="adj2" fmla="val 5787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360520" y="2852640"/>
            <a:ext cx="1440000" cy="1455840"/>
            <a:chOff x="2360520" y="2852640"/>
            <a:chExt cx="1440000" cy="1455840"/>
          </a:xfrm>
        </p:grpSpPr>
        <p:sp>
          <p:nvSpPr>
            <p:cNvPr id="517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052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052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05240" y="3141720"/>
              <a:ext cx="1152360" cy="934920"/>
            </a:xfrm>
            <a:prstGeom prst="flowChartMultidocumen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88880" y="4797360"/>
            <a:ext cx="1440000" cy="1455840"/>
            <a:chOff x="488880" y="4797360"/>
            <a:chExt cx="1440000" cy="1455840"/>
          </a:xfrm>
        </p:grpSpPr>
        <p:sp>
          <p:nvSpPr>
            <p:cNvPr id="522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888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888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4880" y="5084640"/>
              <a:ext cx="1008000" cy="865440"/>
            </a:xfrm>
            <a:custGeom>
              <a:avLst/>
              <a:gdLst/>
              <a:ahLst/>
              <a:rect l="l" t="t" r="r" b="b"/>
              <a:pathLst>
                <a:path w="681" h="545">
                  <a:moveTo>
                    <a:pt x="681" y="545"/>
                  </a:moveTo>
                  <a:lnTo>
                    <a:pt x="0" y="545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363" y="0"/>
                  </a:lnTo>
                  <a:lnTo>
                    <a:pt x="416" y="91"/>
                  </a:lnTo>
                  <a:lnTo>
                    <a:pt x="681" y="91"/>
                  </a:lnTo>
                  <a:lnTo>
                    <a:pt x="681" y="54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360520" y="4797360"/>
            <a:ext cx="1440000" cy="1455840"/>
            <a:chOff x="2360520" y="4797360"/>
            <a:chExt cx="1440000" cy="1455840"/>
          </a:xfrm>
        </p:grpSpPr>
        <p:sp>
          <p:nvSpPr>
            <p:cNvPr id="527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6052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6052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76520" y="5013360"/>
              <a:ext cx="1008000" cy="1008000"/>
            </a:xfrm>
            <a:prstGeom prst="donut">
              <a:avLst>
                <a:gd name="adj" fmla="val 3793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233960" y="4797360"/>
            <a:ext cx="1439640" cy="1455840"/>
            <a:chOff x="4233960" y="4797360"/>
            <a:chExt cx="1439640" cy="1455840"/>
          </a:xfrm>
        </p:grpSpPr>
        <p:sp>
          <p:nvSpPr>
            <p:cNvPr id="532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396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3396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8160" y="5084640"/>
              <a:ext cx="1009800" cy="93672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233960" y="2852640"/>
            <a:ext cx="1439640" cy="1455840"/>
            <a:chOff x="4233960" y="2852640"/>
            <a:chExt cx="1439640" cy="1455840"/>
          </a:xfrm>
        </p:grpSpPr>
        <p:sp>
          <p:nvSpPr>
            <p:cNvPr id="537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396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3396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76880" y="3068640"/>
              <a:ext cx="1152360" cy="1081080"/>
            </a:xfrm>
            <a:custGeom>
              <a:avLst/>
              <a:gdLst>
                <a:gd name="textAreaLeft" fmla="*/ 180000 w 1152360"/>
                <a:gd name="textAreaRight" fmla="*/ 868320 w 1152360"/>
                <a:gd name="textAreaTop" fmla="*/ 218880 h 1081080"/>
                <a:gd name="textAreaBottom" fmla="*/ 8622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377"/>
                  </a:moveTo>
                  <a:lnTo>
                    <a:pt x="12645" y="4377"/>
                  </a:lnTo>
                  <a:lnTo>
                    <a:pt x="12645" y="0"/>
                  </a:lnTo>
                  <a:lnTo>
                    <a:pt x="21600" y="10800"/>
                  </a:lnTo>
                  <a:lnTo>
                    <a:pt x="12645" y="21600"/>
                  </a:lnTo>
                  <a:lnTo>
                    <a:pt x="12645" y="17223"/>
                  </a:lnTo>
                  <a:lnTo>
                    <a:pt x="3375" y="17223"/>
                  </a:lnTo>
                  <a:close/>
                </a:path>
                <a:path w="21600" h="21600">
                  <a:moveTo>
                    <a:pt x="0" y="4377"/>
                  </a:moveTo>
                  <a:lnTo>
                    <a:pt x="675" y="4377"/>
                  </a:lnTo>
                  <a:lnTo>
                    <a:pt x="675" y="17223"/>
                  </a:lnTo>
                  <a:lnTo>
                    <a:pt x="0" y="17223"/>
                  </a:lnTo>
                  <a:close/>
                </a:path>
                <a:path w="21600" h="21600">
                  <a:moveTo>
                    <a:pt x="1350" y="4377"/>
                  </a:moveTo>
                  <a:lnTo>
                    <a:pt x="2700" y="4377"/>
                  </a:lnTo>
                  <a:lnTo>
                    <a:pt x="2700" y="17223"/>
                  </a:lnTo>
                  <a:lnTo>
                    <a:pt x="1350" y="17223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105600" y="2852640"/>
            <a:ext cx="1439640" cy="1455840"/>
            <a:chOff x="6105600" y="2852640"/>
            <a:chExt cx="1439640" cy="1455840"/>
          </a:xfrm>
        </p:grpSpPr>
        <p:sp>
          <p:nvSpPr>
            <p:cNvPr id="542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0560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0560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21600" y="3068640"/>
              <a:ext cx="1008000" cy="1081080"/>
            </a:xfrm>
            <a:prstGeom prst="can">
              <a:avLst>
                <a:gd name="adj" fmla="val 4135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105600" y="4797360"/>
            <a:ext cx="1439640" cy="1455840"/>
            <a:chOff x="6105600" y="4797360"/>
            <a:chExt cx="1439640" cy="1455840"/>
          </a:xfrm>
        </p:grpSpPr>
        <p:sp>
          <p:nvSpPr>
            <p:cNvPr id="547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0560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0560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1600" y="5013360"/>
              <a:ext cx="1008000" cy="1008000"/>
            </a:xfrm>
            <a:prstGeom prst="donut">
              <a:avLst>
                <a:gd name="adj" fmla="val 16148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977240" y="4797360"/>
            <a:ext cx="1439640" cy="1455840"/>
            <a:chOff x="7977240" y="4797360"/>
            <a:chExt cx="1439640" cy="1455840"/>
          </a:xfrm>
        </p:grpSpPr>
        <p:sp>
          <p:nvSpPr>
            <p:cNvPr id="552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7724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7724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700000">
              <a:off x="8193240" y="5013000"/>
              <a:ext cx="1008000" cy="1008000"/>
            </a:xfrm>
            <a:prstGeom prst="plus">
              <a:avLst>
                <a:gd name="adj" fmla="val 4209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77240" y="907920"/>
            <a:ext cx="1439640" cy="1455840"/>
            <a:chOff x="7977240" y="907920"/>
            <a:chExt cx="1439640" cy="1455840"/>
          </a:xfrm>
        </p:grpSpPr>
        <p:sp>
          <p:nvSpPr>
            <p:cNvPr id="557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7724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7724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265960" y="1268280"/>
              <a:ext cx="57636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13960" y="1123920"/>
              <a:ext cx="215640" cy="998640"/>
            </a:xfrm>
            <a:custGeom>
              <a:avLst/>
              <a:gdLst/>
              <a:ahLst/>
              <a:rect l="l" t="t" r="r" b="b"/>
              <a:pathLst>
                <a:path w="136" h="681">
                  <a:moveTo>
                    <a:pt x="0" y="681"/>
                  </a:moveTo>
                  <a:lnTo>
                    <a:pt x="0" y="91"/>
                  </a:lnTo>
                  <a:lnTo>
                    <a:pt x="136" y="0"/>
                  </a:lnTo>
                  <a:lnTo>
                    <a:pt x="136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7977240" y="2852640"/>
            <a:ext cx="1439640" cy="1455840"/>
            <a:chOff x="7977240" y="2852640"/>
            <a:chExt cx="1439640" cy="1455840"/>
          </a:xfrm>
        </p:grpSpPr>
        <p:sp>
          <p:nvSpPr>
            <p:cNvPr id="563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7724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7724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3240" y="3068640"/>
              <a:ext cx="1079280" cy="1008000"/>
            </a:xfrm>
            <a:custGeom>
              <a:avLst/>
              <a:gdLst>
                <a:gd name="textAreaLeft" fmla="*/ 428400 w 1079280"/>
                <a:gd name="textAreaRight" fmla="*/ 887400 w 1079280"/>
                <a:gd name="textAreaTop" fmla="*/ 615240 h 1008000"/>
                <a:gd name="textAreaBottom" fmla="*/ 828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028"/>
                  </a:moveTo>
                  <a:lnTo>
                    <a:pt x="13184" y="17028"/>
                  </a:lnTo>
                  <a:lnTo>
                    <a:pt x="13184" y="8572"/>
                  </a:lnTo>
                  <a:lnTo>
                    <a:pt x="9340" y="8572"/>
                  </a:lnTo>
                  <a:lnTo>
                    <a:pt x="15470" y="0"/>
                  </a:lnTo>
                  <a:lnTo>
                    <a:pt x="21600" y="8572"/>
                  </a:lnTo>
                  <a:lnTo>
                    <a:pt x="17756" y="8572"/>
                  </a:lnTo>
                  <a:lnTo>
                    <a:pt x="1775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488880" y="907920"/>
            <a:ext cx="1440000" cy="1455840"/>
            <a:chOff x="488880" y="907920"/>
            <a:chExt cx="1440000" cy="1455840"/>
          </a:xfrm>
        </p:grpSpPr>
        <p:sp>
          <p:nvSpPr>
            <p:cNvPr id="568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888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888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9800000">
              <a:off x="898200" y="1047600"/>
              <a:ext cx="625320" cy="1190880"/>
            </a:xfrm>
            <a:prstGeom prst="upArrow">
              <a:avLst>
                <a:gd name="adj1" fmla="val 29556"/>
                <a:gd name="adj2" fmla="val 9806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88880" y="2852640"/>
            <a:ext cx="1440000" cy="1455840"/>
            <a:chOff x="488880" y="2852640"/>
            <a:chExt cx="1440000" cy="1455840"/>
          </a:xfrm>
        </p:grpSpPr>
        <p:sp>
          <p:nvSpPr>
            <p:cNvPr id="573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888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888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849240" y="2997360"/>
              <a:ext cx="673200" cy="1159920"/>
              <a:chOff x="849240" y="2997360"/>
              <a:chExt cx="673200" cy="115992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920160" y="3125520"/>
                <a:ext cx="601920" cy="1031760"/>
                <a:chOff x="920160" y="3125520"/>
                <a:chExt cx="601920" cy="10317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920160" y="3125520"/>
                  <a:ext cx="601920" cy="103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061280" y="3254400"/>
                  <a:ext cx="318240" cy="102600"/>
                </a:xfrm>
                <a:prstGeom prst="rect">
                  <a:avLst/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849240" y="3022920"/>
                <a:ext cx="28332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310040" y="2997360"/>
                <a:ext cx="21240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"/>
          <p:cNvGrpSpPr/>
          <p:nvPr/>
        </p:nvGrpSpPr>
        <p:grpSpPr>
          <a:xfrm>
            <a:off x="2360520" y="2852640"/>
            <a:ext cx="1440000" cy="1455840"/>
            <a:chOff x="2360520" y="2852640"/>
            <a:chExt cx="1440000" cy="1455840"/>
          </a:xfrm>
        </p:grpSpPr>
        <p:sp>
          <p:nvSpPr>
            <p:cNvPr id="583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6052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052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49600" y="3141720"/>
              <a:ext cx="934920" cy="934920"/>
            </a:xfrm>
            <a:prstGeom prst="lightningBol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360520" y="907920"/>
            <a:ext cx="1440000" cy="1455840"/>
            <a:chOff x="2360520" y="907920"/>
            <a:chExt cx="1440000" cy="1455840"/>
          </a:xfrm>
        </p:grpSpPr>
        <p:sp>
          <p:nvSpPr>
            <p:cNvPr id="588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052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6052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76520" y="1125360"/>
              <a:ext cx="1008000" cy="1008360"/>
            </a:xfrm>
            <a:prstGeom prst="noSmoking">
              <a:avLst>
                <a:gd name="adj" fmla="val 125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233960" y="907920"/>
            <a:ext cx="1439640" cy="1455840"/>
            <a:chOff x="4233960" y="907920"/>
            <a:chExt cx="1439640" cy="1455840"/>
          </a:xfrm>
        </p:grpSpPr>
        <p:sp>
          <p:nvSpPr>
            <p:cNvPr id="593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3396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3396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65600" y="1125360"/>
              <a:ext cx="576360" cy="10796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81" y="0"/>
                  </a:moveTo>
                  <a:lnTo>
                    <a:pt x="0" y="454"/>
                  </a:lnTo>
                  <a:cubicBezTo>
                    <a:pt x="0" y="560"/>
                    <a:pt x="121" y="635"/>
                    <a:pt x="181" y="635"/>
                  </a:cubicBezTo>
                  <a:cubicBezTo>
                    <a:pt x="241" y="635"/>
                    <a:pt x="363" y="560"/>
                    <a:pt x="363" y="454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233960" y="2852640"/>
            <a:ext cx="1439640" cy="1455840"/>
            <a:chOff x="4233960" y="2852640"/>
            <a:chExt cx="1439640" cy="1455840"/>
          </a:xfrm>
        </p:grpSpPr>
        <p:sp>
          <p:nvSpPr>
            <p:cNvPr id="598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3396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3396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19440" y="3068640"/>
              <a:ext cx="865440" cy="865080"/>
            </a:xfrm>
            <a:prstGeom prst="blockArc">
              <a:avLst>
                <a:gd name="adj1" fmla="val 10960394"/>
                <a:gd name="adj2" fmla="val 21439606"/>
                <a:gd name="adj3" fmla="val 2052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1800" y="3500280"/>
              <a:ext cx="1081080" cy="649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05600" y="907920"/>
            <a:ext cx="1439640" cy="1455840"/>
            <a:chOff x="6105600" y="907920"/>
            <a:chExt cx="1439640" cy="1455840"/>
          </a:xfrm>
        </p:grpSpPr>
        <p:sp>
          <p:nvSpPr>
            <p:cNvPr id="604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560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0560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392880" y="1125360"/>
              <a:ext cx="946080" cy="1089000"/>
              <a:chOff x="6392880" y="1125360"/>
              <a:chExt cx="946080" cy="1089000"/>
            </a:xfrm>
          </p:grpSpPr>
          <p:sp>
            <p:nvSpPr>
              <p:cNvPr id="608" name=""/>
              <p:cNvSpPr/>
              <p:nvPr/>
            </p:nvSpPr>
            <p:spPr>
              <a:xfrm>
                <a:off x="6392880" y="1363680"/>
                <a:ext cx="946080" cy="850680"/>
              </a:xfrm>
              <a:custGeom>
                <a:avLst/>
                <a:gdLst/>
                <a:ahLst/>
                <a:rect l="l" t="t" r="r" b="b"/>
                <a:pathLst>
                  <a:path w="908" h="816">
                    <a:moveTo>
                      <a:pt x="136" y="181"/>
                    </a:moveTo>
                    <a:lnTo>
                      <a:pt x="0" y="181"/>
                    </a:lnTo>
                    <a:lnTo>
                      <a:pt x="0" y="272"/>
                    </a:lnTo>
                    <a:lnTo>
                      <a:pt x="182" y="272"/>
                    </a:lnTo>
                    <a:lnTo>
                      <a:pt x="273" y="181"/>
                    </a:lnTo>
                    <a:lnTo>
                      <a:pt x="363" y="363"/>
                    </a:lnTo>
                    <a:lnTo>
                      <a:pt x="136" y="816"/>
                    </a:lnTo>
                    <a:lnTo>
                      <a:pt x="273" y="816"/>
                    </a:lnTo>
                    <a:lnTo>
                      <a:pt x="468" y="418"/>
                    </a:lnTo>
                    <a:lnTo>
                      <a:pt x="499" y="680"/>
                    </a:lnTo>
                    <a:lnTo>
                      <a:pt x="908" y="680"/>
                    </a:lnTo>
                    <a:lnTo>
                      <a:pt x="855" y="568"/>
                    </a:lnTo>
                    <a:lnTo>
                      <a:pt x="597" y="568"/>
                    </a:lnTo>
                    <a:lnTo>
                      <a:pt x="590" y="317"/>
                    </a:lnTo>
                    <a:lnTo>
                      <a:pt x="454" y="91"/>
                    </a:lnTo>
                    <a:lnTo>
                      <a:pt x="590" y="91"/>
                    </a:lnTo>
                    <a:lnTo>
                      <a:pt x="681" y="272"/>
                    </a:lnTo>
                    <a:lnTo>
                      <a:pt x="771" y="227"/>
                    </a:lnTo>
                    <a:lnTo>
                      <a:pt x="635" y="0"/>
                    </a:lnTo>
                    <a:lnTo>
                      <a:pt x="273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581880" y="1125360"/>
                <a:ext cx="236520" cy="2365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"/>
          <p:cNvGrpSpPr/>
          <p:nvPr/>
        </p:nvGrpSpPr>
        <p:grpSpPr>
          <a:xfrm>
            <a:off x="6105600" y="2852640"/>
            <a:ext cx="1439640" cy="1455840"/>
            <a:chOff x="6105600" y="2852640"/>
            <a:chExt cx="1439640" cy="1455840"/>
          </a:xfrm>
        </p:grpSpPr>
        <p:sp>
          <p:nvSpPr>
            <p:cNvPr id="611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0560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0560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465960" y="3068640"/>
              <a:ext cx="76824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 Black"/>
                </a:rPr>
                <a:t>?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929000" y="907920"/>
            <a:ext cx="1487880" cy="1497600"/>
            <a:chOff x="7929000" y="907920"/>
            <a:chExt cx="1487880" cy="1497600"/>
          </a:xfrm>
        </p:grpSpPr>
        <p:sp>
          <p:nvSpPr>
            <p:cNvPr id="616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7724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7724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700000">
              <a:off x="8273520" y="1111320"/>
              <a:ext cx="652680" cy="1245960"/>
            </a:xfrm>
            <a:custGeom>
              <a:avLst/>
              <a:gdLst/>
              <a:ahLst/>
              <a:rect l="l" t="t" r="r" b="b"/>
              <a:pathLst>
                <a:path w="499" h="953">
                  <a:moveTo>
                    <a:pt x="182" y="454"/>
                  </a:moveTo>
                  <a:lnTo>
                    <a:pt x="181" y="862"/>
                  </a:lnTo>
                  <a:lnTo>
                    <a:pt x="227" y="953"/>
                  </a:lnTo>
                  <a:lnTo>
                    <a:pt x="272" y="953"/>
                  </a:lnTo>
                  <a:lnTo>
                    <a:pt x="318" y="862"/>
                  </a:lnTo>
                  <a:lnTo>
                    <a:pt x="318" y="771"/>
                  </a:lnTo>
                  <a:lnTo>
                    <a:pt x="272" y="771"/>
                  </a:lnTo>
                  <a:lnTo>
                    <a:pt x="272" y="726"/>
                  </a:lnTo>
                  <a:lnTo>
                    <a:pt x="318" y="681"/>
                  </a:lnTo>
                  <a:lnTo>
                    <a:pt x="272" y="635"/>
                  </a:lnTo>
                  <a:lnTo>
                    <a:pt x="318" y="590"/>
                  </a:lnTo>
                  <a:lnTo>
                    <a:pt x="318" y="545"/>
                  </a:lnTo>
                  <a:lnTo>
                    <a:pt x="272" y="545"/>
                  </a:lnTo>
                  <a:lnTo>
                    <a:pt x="272" y="454"/>
                  </a:lnTo>
                  <a:lnTo>
                    <a:pt x="454" y="454"/>
                  </a:lnTo>
                  <a:lnTo>
                    <a:pt x="499" y="408"/>
                  </a:lnTo>
                  <a:lnTo>
                    <a:pt x="499" y="46"/>
                  </a:lnTo>
                  <a:lnTo>
                    <a:pt x="454" y="0"/>
                  </a:lnTo>
                  <a:lnTo>
                    <a:pt x="46" y="0"/>
                  </a:lnTo>
                  <a:lnTo>
                    <a:pt x="0" y="46"/>
                  </a:lnTo>
                  <a:lnTo>
                    <a:pt x="0" y="408"/>
                  </a:lnTo>
                  <a:lnTo>
                    <a:pt x="46" y="454"/>
                  </a:lnTo>
                  <a:lnTo>
                    <a:pt x="182" y="454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88880" y="4797360"/>
            <a:ext cx="1440000" cy="1455840"/>
            <a:chOff x="488880" y="4797360"/>
            <a:chExt cx="1440000" cy="1455840"/>
          </a:xfrm>
        </p:grpSpPr>
        <p:sp>
          <p:nvSpPr>
            <p:cNvPr id="621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888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888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4880" y="5084640"/>
              <a:ext cx="720720" cy="865440"/>
            </a:xfrm>
            <a:custGeom>
              <a:avLst/>
              <a:gdLst/>
              <a:ahLst/>
              <a:rect l="l" t="t" r="r" b="b"/>
              <a:pathLst>
                <a:path w="454" h="545">
                  <a:moveTo>
                    <a:pt x="454" y="0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82" y="409"/>
                  </a:lnTo>
                  <a:lnTo>
                    <a:pt x="182" y="499"/>
                  </a:lnTo>
                  <a:lnTo>
                    <a:pt x="46" y="499"/>
                  </a:lnTo>
                  <a:lnTo>
                    <a:pt x="46" y="545"/>
                  </a:lnTo>
                  <a:lnTo>
                    <a:pt x="408" y="545"/>
                  </a:lnTo>
                  <a:lnTo>
                    <a:pt x="408" y="499"/>
                  </a:lnTo>
                  <a:lnTo>
                    <a:pt x="272" y="499"/>
                  </a:lnTo>
                  <a:lnTo>
                    <a:pt x="272" y="409"/>
                  </a:lnTo>
                  <a:lnTo>
                    <a:pt x="454" y="409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96880" y="5084640"/>
              <a:ext cx="21600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360520" y="4797360"/>
            <a:ext cx="1479960" cy="1480680"/>
            <a:chOff x="2360520" y="4797360"/>
            <a:chExt cx="1479960" cy="1480680"/>
          </a:xfrm>
        </p:grpSpPr>
        <p:sp>
          <p:nvSpPr>
            <p:cNvPr id="627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36052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6052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800000">
              <a:off x="2579400" y="5067360"/>
              <a:ext cx="1081080" cy="1008000"/>
            </a:xfrm>
            <a:prstGeom prst="irregularSeal2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233960" y="4797360"/>
            <a:ext cx="1439640" cy="1455840"/>
            <a:chOff x="4233960" y="4797360"/>
            <a:chExt cx="1439640" cy="1455840"/>
          </a:xfrm>
        </p:grpSpPr>
        <p:sp>
          <p:nvSpPr>
            <p:cNvPr id="632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3396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3396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21240" y="5229360"/>
              <a:ext cx="863640" cy="86364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0" y="0"/>
                  </a:moveTo>
                  <a:lnTo>
                    <a:pt x="45" y="544"/>
                  </a:lnTo>
                  <a:lnTo>
                    <a:pt x="499" y="544"/>
                  </a:lnTo>
                  <a:lnTo>
                    <a:pt x="5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8160" y="5013360"/>
              <a:ext cx="1009800" cy="144360"/>
            </a:xfrm>
            <a:custGeom>
              <a:avLst/>
              <a:gdLst/>
              <a:ahLst/>
              <a:rect l="l" t="t" r="r" b="b"/>
              <a:pathLst>
                <a:path w="636" h="136">
                  <a:moveTo>
                    <a:pt x="636" y="136"/>
                  </a:moveTo>
                  <a:lnTo>
                    <a:pt x="0" y="136"/>
                  </a:lnTo>
                  <a:lnTo>
                    <a:pt x="0" y="45"/>
                  </a:lnTo>
                  <a:lnTo>
                    <a:pt x="227" y="45"/>
                  </a:lnTo>
                  <a:lnTo>
                    <a:pt x="227" y="0"/>
                  </a:lnTo>
                  <a:lnTo>
                    <a:pt x="409" y="0"/>
                  </a:lnTo>
                  <a:lnTo>
                    <a:pt x="409" y="45"/>
                  </a:lnTo>
                  <a:lnTo>
                    <a:pt x="636" y="45"/>
                  </a:lnTo>
                  <a:lnTo>
                    <a:pt x="636" y="13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977240" y="2852640"/>
            <a:ext cx="1439640" cy="1455840"/>
            <a:chOff x="7977240" y="2852640"/>
            <a:chExt cx="1439640" cy="1455840"/>
          </a:xfrm>
        </p:grpSpPr>
        <p:sp>
          <p:nvSpPr>
            <p:cNvPr id="638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7724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7724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21600" y="2997360"/>
              <a:ext cx="1152720" cy="1152360"/>
            </a:xfrm>
            <a:prstGeom prst="sun">
              <a:avLst>
                <a:gd name="adj" fmla="val 2029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105600" y="4797360"/>
            <a:ext cx="1439640" cy="1455840"/>
            <a:chOff x="6105600" y="4797360"/>
            <a:chExt cx="1439640" cy="1455840"/>
          </a:xfrm>
        </p:grpSpPr>
        <p:sp>
          <p:nvSpPr>
            <p:cNvPr id="643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0560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560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48520" y="4941720"/>
              <a:ext cx="1152360" cy="1152720"/>
            </a:xfrm>
            <a:prstGeom prst="donut">
              <a:avLst>
                <a:gd name="adj" fmla="val 8541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81960" y="5373720"/>
              <a:ext cx="287280" cy="28728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69240" y="5445000"/>
              <a:ext cx="215640" cy="144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7100000">
              <a:off x="6769080" y="5190840"/>
              <a:ext cx="290520" cy="716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8" y="0"/>
                  </a:lnTo>
                  <a:lnTo>
                    <a:pt x="21600" y="10800"/>
                  </a:lnTo>
                  <a:lnTo>
                    <a:pt x="1910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977240" y="4797360"/>
            <a:ext cx="1439640" cy="1455840"/>
            <a:chOff x="7977240" y="4797360"/>
            <a:chExt cx="1439640" cy="1455840"/>
          </a:xfrm>
        </p:grpSpPr>
        <p:sp>
          <p:nvSpPr>
            <p:cNvPr id="651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7724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7724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265960" y="5084640"/>
              <a:ext cx="863640" cy="936720"/>
            </a:xfrm>
            <a:custGeom>
              <a:avLst/>
              <a:gdLst>
                <a:gd name="textAreaLeft" fmla="*/ 203040 w 863640"/>
                <a:gd name="textAreaRight" fmla="*/ 660240 w 863640"/>
                <a:gd name="textAreaTop" fmla="*/ 110160 h 936720"/>
                <a:gd name="textAreaBottom" fmla="*/ 587520 h 936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488880" y="907920"/>
            <a:ext cx="1440000" cy="1455840"/>
            <a:chOff x="488880" y="907920"/>
            <a:chExt cx="1440000" cy="1455840"/>
          </a:xfrm>
        </p:grpSpPr>
        <p:sp>
          <p:nvSpPr>
            <p:cNvPr id="656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88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888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3440" y="1123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066" y="5836"/>
                  </a:moveTo>
                  <a:arcTo wR="-6545" hR="-6545" stAng="-2959479" swAng="-18640521"/>
                  <a:lnTo>
                    <a:pt x="0" y="10800"/>
                  </a:lnTo>
                  <a:arcTo wR="10800" hR="10800" stAng="10800000" swAng="18640521"/>
                  <a:lnTo>
                    <a:pt x="2001" y="21039"/>
                  </a:lnTo>
                  <a:lnTo>
                    <a:pt x="1486" y="14231"/>
                  </a:lnTo>
                  <a:lnTo>
                    <a:pt x="8294" y="137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360520" y="907920"/>
            <a:ext cx="1440000" cy="1455840"/>
            <a:chOff x="2360520" y="907920"/>
            <a:chExt cx="1440000" cy="1455840"/>
          </a:xfrm>
        </p:grpSpPr>
        <p:sp>
          <p:nvSpPr>
            <p:cNvPr id="661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052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052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05240" y="1052640"/>
              <a:ext cx="1152360" cy="1150920"/>
            </a:xfrm>
            <a:custGeom>
              <a:avLst/>
              <a:gdLst/>
              <a:ahLst/>
              <a:rect l="l" t="t" r="r" b="b"/>
              <a:pathLst>
                <a:path w="1089" h="725">
                  <a:moveTo>
                    <a:pt x="408" y="589"/>
                  </a:moveTo>
                  <a:lnTo>
                    <a:pt x="544" y="589"/>
                  </a:lnTo>
                  <a:lnTo>
                    <a:pt x="544" y="725"/>
                  </a:lnTo>
                  <a:lnTo>
                    <a:pt x="181" y="725"/>
                  </a:lnTo>
                  <a:lnTo>
                    <a:pt x="181" y="363"/>
                  </a:lnTo>
                  <a:lnTo>
                    <a:pt x="0" y="363"/>
                  </a:lnTo>
                  <a:lnTo>
                    <a:pt x="544" y="0"/>
                  </a:lnTo>
                  <a:lnTo>
                    <a:pt x="1089" y="363"/>
                  </a:lnTo>
                  <a:lnTo>
                    <a:pt x="907" y="363"/>
                  </a:lnTo>
                  <a:lnTo>
                    <a:pt x="907" y="725"/>
                  </a:lnTo>
                  <a:lnTo>
                    <a:pt x="544" y="725"/>
                  </a:lnTo>
                  <a:lnTo>
                    <a:pt x="544" y="589"/>
                  </a:lnTo>
                  <a:lnTo>
                    <a:pt x="680" y="589"/>
                  </a:lnTo>
                  <a:lnTo>
                    <a:pt x="680" y="363"/>
                  </a:lnTo>
                  <a:lnTo>
                    <a:pt x="408" y="363"/>
                  </a:lnTo>
                  <a:lnTo>
                    <a:pt x="408" y="589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233960" y="907920"/>
            <a:ext cx="1439640" cy="1455840"/>
            <a:chOff x="4233960" y="907920"/>
            <a:chExt cx="1439640" cy="1455840"/>
          </a:xfrm>
        </p:grpSpPr>
        <p:sp>
          <p:nvSpPr>
            <p:cNvPr id="666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396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3396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521240" y="1125360"/>
              <a:ext cx="863640" cy="1079640"/>
              <a:chOff x="4521240" y="1125360"/>
              <a:chExt cx="863640" cy="1079640"/>
            </a:xfrm>
          </p:grpSpPr>
          <p:sp>
            <p:nvSpPr>
              <p:cNvPr id="670" name=""/>
              <p:cNvSpPr/>
              <p:nvPr/>
            </p:nvSpPr>
            <p:spPr>
              <a:xfrm>
                <a:off x="4521240" y="1125360"/>
                <a:ext cx="863640" cy="1079640"/>
              </a:xfrm>
              <a:prstGeom prst="foldedCorner">
                <a:avLst>
                  <a:gd name="adj" fmla="val 20402"/>
                </a:avLst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592520" y="1268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592520" y="141300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592520" y="1555920"/>
                <a:ext cx="720720" cy="7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92520" y="170028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92520" y="1844640"/>
                <a:ext cx="720720" cy="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6105600" y="907920"/>
            <a:ext cx="1439640" cy="1455840"/>
            <a:chOff x="6105600" y="907920"/>
            <a:chExt cx="1439640" cy="1455840"/>
          </a:xfrm>
        </p:grpSpPr>
        <p:sp>
          <p:nvSpPr>
            <p:cNvPr id="677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0560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0560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48520" y="1052640"/>
              <a:ext cx="1152360" cy="1093680"/>
            </a:xfrm>
            <a:prstGeom prst="star5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488880" y="2852640"/>
            <a:ext cx="1440000" cy="1455840"/>
            <a:chOff x="488880" y="2852640"/>
            <a:chExt cx="1440000" cy="1455840"/>
          </a:xfrm>
        </p:grpSpPr>
        <p:sp>
          <p:nvSpPr>
            <p:cNvPr id="682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888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888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1800" y="3078000"/>
              <a:ext cx="1152720" cy="927360"/>
            </a:xfrm>
            <a:prstGeom prst="wedgeEllipseCallout">
              <a:avLst>
                <a:gd name="adj1" fmla="val -38569"/>
                <a:gd name="adj2" fmla="val 5787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360520" y="2852640"/>
            <a:ext cx="1440000" cy="1455840"/>
            <a:chOff x="2360520" y="2852640"/>
            <a:chExt cx="1440000" cy="1455840"/>
          </a:xfrm>
        </p:grpSpPr>
        <p:sp>
          <p:nvSpPr>
            <p:cNvPr id="687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052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052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05240" y="3141720"/>
              <a:ext cx="1152360" cy="934920"/>
            </a:xfrm>
            <a:prstGeom prst="flowChartMultidocumen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88880" y="4797360"/>
            <a:ext cx="1440000" cy="1455840"/>
            <a:chOff x="488880" y="4797360"/>
            <a:chExt cx="1440000" cy="1455840"/>
          </a:xfrm>
        </p:grpSpPr>
        <p:sp>
          <p:nvSpPr>
            <p:cNvPr id="692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888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888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4880" y="5084640"/>
              <a:ext cx="1008000" cy="865440"/>
            </a:xfrm>
            <a:custGeom>
              <a:avLst/>
              <a:gdLst/>
              <a:ahLst/>
              <a:rect l="l" t="t" r="r" b="b"/>
              <a:pathLst>
                <a:path w="681" h="545">
                  <a:moveTo>
                    <a:pt x="681" y="545"/>
                  </a:moveTo>
                  <a:lnTo>
                    <a:pt x="0" y="545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363" y="0"/>
                  </a:lnTo>
                  <a:lnTo>
                    <a:pt x="416" y="91"/>
                  </a:lnTo>
                  <a:lnTo>
                    <a:pt x="681" y="91"/>
                  </a:lnTo>
                  <a:lnTo>
                    <a:pt x="681" y="54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360520" y="4797360"/>
            <a:ext cx="1440000" cy="1455840"/>
            <a:chOff x="2360520" y="4797360"/>
            <a:chExt cx="1440000" cy="1455840"/>
          </a:xfrm>
        </p:grpSpPr>
        <p:sp>
          <p:nvSpPr>
            <p:cNvPr id="697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6052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6052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76520" y="5013360"/>
              <a:ext cx="1008000" cy="1008000"/>
            </a:xfrm>
            <a:prstGeom prst="donut">
              <a:avLst>
                <a:gd name="adj" fmla="val 3793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233960" y="4797360"/>
            <a:ext cx="1439640" cy="1455840"/>
            <a:chOff x="4233960" y="4797360"/>
            <a:chExt cx="1439640" cy="1455840"/>
          </a:xfrm>
        </p:grpSpPr>
        <p:sp>
          <p:nvSpPr>
            <p:cNvPr id="702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3396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3396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084640"/>
              <a:ext cx="1009800" cy="93672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233960" y="2852640"/>
            <a:ext cx="1439640" cy="1455840"/>
            <a:chOff x="4233960" y="2852640"/>
            <a:chExt cx="1439640" cy="1455840"/>
          </a:xfrm>
        </p:grpSpPr>
        <p:sp>
          <p:nvSpPr>
            <p:cNvPr id="707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3396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3396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76880" y="3068640"/>
              <a:ext cx="1152360" cy="1081080"/>
            </a:xfrm>
            <a:custGeom>
              <a:avLst/>
              <a:gdLst>
                <a:gd name="textAreaLeft" fmla="*/ 180000 w 1152360"/>
                <a:gd name="textAreaRight" fmla="*/ 868320 w 1152360"/>
                <a:gd name="textAreaTop" fmla="*/ 218880 h 1081080"/>
                <a:gd name="textAreaBottom" fmla="*/ 8622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377"/>
                  </a:moveTo>
                  <a:lnTo>
                    <a:pt x="12645" y="4377"/>
                  </a:lnTo>
                  <a:lnTo>
                    <a:pt x="12645" y="0"/>
                  </a:lnTo>
                  <a:lnTo>
                    <a:pt x="21600" y="10800"/>
                  </a:lnTo>
                  <a:lnTo>
                    <a:pt x="12645" y="21600"/>
                  </a:lnTo>
                  <a:lnTo>
                    <a:pt x="12645" y="17223"/>
                  </a:lnTo>
                  <a:lnTo>
                    <a:pt x="3375" y="17223"/>
                  </a:lnTo>
                  <a:close/>
                </a:path>
                <a:path w="21600" h="21600">
                  <a:moveTo>
                    <a:pt x="0" y="4377"/>
                  </a:moveTo>
                  <a:lnTo>
                    <a:pt x="675" y="4377"/>
                  </a:lnTo>
                  <a:lnTo>
                    <a:pt x="675" y="17223"/>
                  </a:lnTo>
                  <a:lnTo>
                    <a:pt x="0" y="17223"/>
                  </a:lnTo>
                  <a:close/>
                </a:path>
                <a:path w="21600" h="21600">
                  <a:moveTo>
                    <a:pt x="1350" y="4377"/>
                  </a:moveTo>
                  <a:lnTo>
                    <a:pt x="2700" y="4377"/>
                  </a:lnTo>
                  <a:lnTo>
                    <a:pt x="2700" y="17223"/>
                  </a:lnTo>
                  <a:lnTo>
                    <a:pt x="1350" y="17223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105600" y="2852640"/>
            <a:ext cx="1439640" cy="1455840"/>
            <a:chOff x="6105600" y="2852640"/>
            <a:chExt cx="1439640" cy="1455840"/>
          </a:xfrm>
        </p:grpSpPr>
        <p:sp>
          <p:nvSpPr>
            <p:cNvPr id="712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0560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0560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21600" y="3068640"/>
              <a:ext cx="1008000" cy="1081080"/>
            </a:xfrm>
            <a:prstGeom prst="can">
              <a:avLst>
                <a:gd name="adj" fmla="val 4135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105600" y="4797360"/>
            <a:ext cx="1439640" cy="1455840"/>
            <a:chOff x="6105600" y="4797360"/>
            <a:chExt cx="1439640" cy="1455840"/>
          </a:xfrm>
        </p:grpSpPr>
        <p:sp>
          <p:nvSpPr>
            <p:cNvPr id="717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0560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0560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21600" y="5013360"/>
              <a:ext cx="1008000" cy="1008000"/>
            </a:xfrm>
            <a:prstGeom prst="donut">
              <a:avLst>
                <a:gd name="adj" fmla="val 16148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7977240" y="4797360"/>
            <a:ext cx="1439640" cy="1455840"/>
            <a:chOff x="7977240" y="4797360"/>
            <a:chExt cx="1439640" cy="1455840"/>
          </a:xfrm>
        </p:grpSpPr>
        <p:sp>
          <p:nvSpPr>
            <p:cNvPr id="722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7724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7724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700000">
              <a:off x="8193240" y="5013000"/>
              <a:ext cx="1008000" cy="1008000"/>
            </a:xfrm>
            <a:prstGeom prst="plus">
              <a:avLst>
                <a:gd name="adj" fmla="val 4209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977240" y="907920"/>
            <a:ext cx="1439640" cy="1455840"/>
            <a:chOff x="7977240" y="907920"/>
            <a:chExt cx="1439640" cy="1455840"/>
          </a:xfrm>
        </p:grpSpPr>
        <p:sp>
          <p:nvSpPr>
            <p:cNvPr id="727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7724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7724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65960" y="1268280"/>
              <a:ext cx="57636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913960" y="1123920"/>
              <a:ext cx="215640" cy="998640"/>
            </a:xfrm>
            <a:custGeom>
              <a:avLst/>
              <a:gdLst/>
              <a:ahLst/>
              <a:rect l="l" t="t" r="r" b="b"/>
              <a:pathLst>
                <a:path w="136" h="681">
                  <a:moveTo>
                    <a:pt x="0" y="681"/>
                  </a:moveTo>
                  <a:lnTo>
                    <a:pt x="0" y="91"/>
                  </a:lnTo>
                  <a:lnTo>
                    <a:pt x="136" y="0"/>
                  </a:lnTo>
                  <a:lnTo>
                    <a:pt x="136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977240" y="2852640"/>
            <a:ext cx="1439640" cy="1455840"/>
            <a:chOff x="7977240" y="2852640"/>
            <a:chExt cx="1439640" cy="1455840"/>
          </a:xfrm>
        </p:grpSpPr>
        <p:sp>
          <p:nvSpPr>
            <p:cNvPr id="733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7724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7724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93240" y="3068640"/>
              <a:ext cx="1079280" cy="1008000"/>
            </a:xfrm>
            <a:custGeom>
              <a:avLst/>
              <a:gdLst>
                <a:gd name="textAreaLeft" fmla="*/ 428400 w 1079280"/>
                <a:gd name="textAreaRight" fmla="*/ 887400 w 1079280"/>
                <a:gd name="textAreaTop" fmla="*/ 615240 h 1008000"/>
                <a:gd name="textAreaBottom" fmla="*/ 828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028"/>
                  </a:moveTo>
                  <a:lnTo>
                    <a:pt x="13184" y="17028"/>
                  </a:lnTo>
                  <a:lnTo>
                    <a:pt x="13184" y="8572"/>
                  </a:lnTo>
                  <a:lnTo>
                    <a:pt x="9340" y="8572"/>
                  </a:lnTo>
                  <a:lnTo>
                    <a:pt x="15470" y="0"/>
                  </a:lnTo>
                  <a:lnTo>
                    <a:pt x="21600" y="8572"/>
                  </a:lnTo>
                  <a:lnTo>
                    <a:pt x="17756" y="8572"/>
                  </a:lnTo>
                  <a:lnTo>
                    <a:pt x="1775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488880" y="907920"/>
            <a:ext cx="1440000" cy="1455840"/>
            <a:chOff x="488880" y="907920"/>
            <a:chExt cx="1440000" cy="1455840"/>
          </a:xfrm>
        </p:grpSpPr>
        <p:sp>
          <p:nvSpPr>
            <p:cNvPr id="738" name=""/>
            <p:cNvSpPr/>
            <p:nvPr/>
          </p:nvSpPr>
          <p:spPr>
            <a:xfrm>
              <a:off x="48888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888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888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800000">
              <a:off x="898200" y="1047600"/>
              <a:ext cx="625320" cy="1190880"/>
            </a:xfrm>
            <a:prstGeom prst="upArrow">
              <a:avLst>
                <a:gd name="adj1" fmla="val 29556"/>
                <a:gd name="adj2" fmla="val 9806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88880" y="2852640"/>
            <a:ext cx="1440000" cy="1455840"/>
            <a:chOff x="488880" y="2852640"/>
            <a:chExt cx="1440000" cy="1455840"/>
          </a:xfrm>
        </p:grpSpPr>
        <p:sp>
          <p:nvSpPr>
            <p:cNvPr id="743" name=""/>
            <p:cNvSpPr/>
            <p:nvPr/>
          </p:nvSpPr>
          <p:spPr>
            <a:xfrm>
              <a:off x="48888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888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888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849240" y="2997360"/>
              <a:ext cx="673200" cy="1159920"/>
              <a:chOff x="849240" y="2997360"/>
              <a:chExt cx="673200" cy="115992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920160" y="3125520"/>
                <a:ext cx="601920" cy="1031760"/>
                <a:chOff x="920160" y="3125520"/>
                <a:chExt cx="601920" cy="103176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920160" y="3125520"/>
                  <a:ext cx="601920" cy="103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061280" y="3254400"/>
                  <a:ext cx="318240" cy="102600"/>
                </a:xfrm>
                <a:prstGeom prst="rect">
                  <a:avLst/>
                </a:pr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0" name=""/>
              <p:cNvSpPr/>
              <p:nvPr/>
            </p:nvSpPr>
            <p:spPr>
              <a:xfrm>
                <a:off x="849240" y="3022920"/>
                <a:ext cx="28332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1310040" y="2997360"/>
                <a:ext cx="212400" cy="154440"/>
              </a:xfrm>
              <a:prstGeom prst="lightningBol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2360520" y="2852640"/>
            <a:ext cx="1440000" cy="1455840"/>
            <a:chOff x="2360520" y="2852640"/>
            <a:chExt cx="1440000" cy="1455840"/>
          </a:xfrm>
        </p:grpSpPr>
        <p:sp>
          <p:nvSpPr>
            <p:cNvPr id="753" name=""/>
            <p:cNvSpPr/>
            <p:nvPr/>
          </p:nvSpPr>
          <p:spPr>
            <a:xfrm>
              <a:off x="2360520" y="285264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60520" y="285264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60520" y="378936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649600" y="3141720"/>
              <a:ext cx="934920" cy="934920"/>
            </a:xfrm>
            <a:prstGeom prst="lightningBol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360520" y="907920"/>
            <a:ext cx="1440000" cy="1455840"/>
            <a:chOff x="2360520" y="907920"/>
            <a:chExt cx="1440000" cy="1455840"/>
          </a:xfrm>
        </p:grpSpPr>
        <p:sp>
          <p:nvSpPr>
            <p:cNvPr id="758" name=""/>
            <p:cNvSpPr/>
            <p:nvPr/>
          </p:nvSpPr>
          <p:spPr>
            <a:xfrm>
              <a:off x="2360520" y="90792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60520" y="90792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0520" y="184464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76520" y="1125360"/>
              <a:ext cx="1008000" cy="1008360"/>
            </a:xfrm>
            <a:prstGeom prst="noSmoking">
              <a:avLst>
                <a:gd name="adj" fmla="val 12500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233960" y="907920"/>
            <a:ext cx="1439640" cy="1455840"/>
            <a:chOff x="4233960" y="907920"/>
            <a:chExt cx="1439640" cy="1455840"/>
          </a:xfrm>
        </p:grpSpPr>
        <p:sp>
          <p:nvSpPr>
            <p:cNvPr id="763" name=""/>
            <p:cNvSpPr/>
            <p:nvPr/>
          </p:nvSpPr>
          <p:spPr>
            <a:xfrm>
              <a:off x="423396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3396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3396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65600" y="1125360"/>
              <a:ext cx="576360" cy="10796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81" y="0"/>
                  </a:moveTo>
                  <a:lnTo>
                    <a:pt x="0" y="454"/>
                  </a:lnTo>
                  <a:cubicBezTo>
                    <a:pt x="0" y="560"/>
                    <a:pt x="121" y="635"/>
                    <a:pt x="181" y="635"/>
                  </a:cubicBezTo>
                  <a:cubicBezTo>
                    <a:pt x="241" y="635"/>
                    <a:pt x="363" y="560"/>
                    <a:pt x="363" y="454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233960" y="2852640"/>
            <a:ext cx="1439640" cy="1455840"/>
            <a:chOff x="4233960" y="2852640"/>
            <a:chExt cx="1439640" cy="1455840"/>
          </a:xfrm>
        </p:grpSpPr>
        <p:sp>
          <p:nvSpPr>
            <p:cNvPr id="768" name=""/>
            <p:cNvSpPr/>
            <p:nvPr/>
          </p:nvSpPr>
          <p:spPr>
            <a:xfrm>
              <a:off x="423396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3396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3396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19440" y="3068640"/>
              <a:ext cx="865440" cy="865080"/>
            </a:xfrm>
            <a:prstGeom prst="blockArc">
              <a:avLst>
                <a:gd name="adj1" fmla="val 10960394"/>
                <a:gd name="adj2" fmla="val 21439606"/>
                <a:gd name="adj3" fmla="val 20523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11800" y="3500280"/>
              <a:ext cx="1081080" cy="649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105600" y="907920"/>
            <a:ext cx="1439640" cy="1455840"/>
            <a:chOff x="6105600" y="907920"/>
            <a:chExt cx="1439640" cy="1455840"/>
          </a:xfrm>
        </p:grpSpPr>
        <p:sp>
          <p:nvSpPr>
            <p:cNvPr id="774" name=""/>
            <p:cNvSpPr/>
            <p:nvPr/>
          </p:nvSpPr>
          <p:spPr>
            <a:xfrm>
              <a:off x="610560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0560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0560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2880" y="1125360"/>
              <a:ext cx="946080" cy="1089000"/>
              <a:chOff x="6392880" y="1125360"/>
              <a:chExt cx="946080" cy="1089000"/>
            </a:xfrm>
          </p:grpSpPr>
          <p:sp>
            <p:nvSpPr>
              <p:cNvPr id="778" name=""/>
              <p:cNvSpPr/>
              <p:nvPr/>
            </p:nvSpPr>
            <p:spPr>
              <a:xfrm>
                <a:off x="6392880" y="1363680"/>
                <a:ext cx="946080" cy="850680"/>
              </a:xfrm>
              <a:custGeom>
                <a:avLst/>
                <a:gdLst/>
                <a:ahLst/>
                <a:rect l="l" t="t" r="r" b="b"/>
                <a:pathLst>
                  <a:path w="908" h="816">
                    <a:moveTo>
                      <a:pt x="136" y="181"/>
                    </a:moveTo>
                    <a:lnTo>
                      <a:pt x="0" y="181"/>
                    </a:lnTo>
                    <a:lnTo>
                      <a:pt x="0" y="272"/>
                    </a:lnTo>
                    <a:lnTo>
                      <a:pt x="182" y="272"/>
                    </a:lnTo>
                    <a:lnTo>
                      <a:pt x="273" y="181"/>
                    </a:lnTo>
                    <a:lnTo>
                      <a:pt x="363" y="363"/>
                    </a:lnTo>
                    <a:lnTo>
                      <a:pt x="136" y="816"/>
                    </a:lnTo>
                    <a:lnTo>
                      <a:pt x="273" y="816"/>
                    </a:lnTo>
                    <a:lnTo>
                      <a:pt x="468" y="418"/>
                    </a:lnTo>
                    <a:lnTo>
                      <a:pt x="499" y="680"/>
                    </a:lnTo>
                    <a:lnTo>
                      <a:pt x="908" y="680"/>
                    </a:lnTo>
                    <a:lnTo>
                      <a:pt x="855" y="568"/>
                    </a:lnTo>
                    <a:lnTo>
                      <a:pt x="597" y="568"/>
                    </a:lnTo>
                    <a:lnTo>
                      <a:pt x="590" y="317"/>
                    </a:lnTo>
                    <a:lnTo>
                      <a:pt x="454" y="91"/>
                    </a:lnTo>
                    <a:lnTo>
                      <a:pt x="590" y="91"/>
                    </a:lnTo>
                    <a:lnTo>
                      <a:pt x="681" y="272"/>
                    </a:lnTo>
                    <a:lnTo>
                      <a:pt x="771" y="227"/>
                    </a:lnTo>
                    <a:lnTo>
                      <a:pt x="635" y="0"/>
                    </a:lnTo>
                    <a:lnTo>
                      <a:pt x="273" y="0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81880" y="1125360"/>
                <a:ext cx="236520" cy="2365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6105600" y="2852640"/>
            <a:ext cx="1439640" cy="1455840"/>
            <a:chOff x="6105600" y="2852640"/>
            <a:chExt cx="1439640" cy="1455840"/>
          </a:xfrm>
        </p:grpSpPr>
        <p:sp>
          <p:nvSpPr>
            <p:cNvPr id="781" name=""/>
            <p:cNvSpPr/>
            <p:nvPr/>
          </p:nvSpPr>
          <p:spPr>
            <a:xfrm>
              <a:off x="610560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0560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0560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6465960" y="3068640"/>
              <a:ext cx="76824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 Black"/>
                </a:rPr>
                <a:t>?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7929000" y="907920"/>
            <a:ext cx="1487880" cy="1497600"/>
            <a:chOff x="7929000" y="907920"/>
            <a:chExt cx="1487880" cy="1497600"/>
          </a:xfrm>
        </p:grpSpPr>
        <p:sp>
          <p:nvSpPr>
            <p:cNvPr id="786" name=""/>
            <p:cNvSpPr/>
            <p:nvPr/>
          </p:nvSpPr>
          <p:spPr>
            <a:xfrm>
              <a:off x="7977240" y="90792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977240" y="90792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77240" y="184464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700000">
              <a:off x="8273520" y="1111320"/>
              <a:ext cx="652680" cy="1245960"/>
            </a:xfrm>
            <a:custGeom>
              <a:avLst/>
              <a:gdLst/>
              <a:ahLst/>
              <a:rect l="l" t="t" r="r" b="b"/>
              <a:pathLst>
                <a:path w="499" h="953">
                  <a:moveTo>
                    <a:pt x="182" y="454"/>
                  </a:moveTo>
                  <a:lnTo>
                    <a:pt x="181" y="862"/>
                  </a:lnTo>
                  <a:lnTo>
                    <a:pt x="227" y="953"/>
                  </a:lnTo>
                  <a:lnTo>
                    <a:pt x="272" y="953"/>
                  </a:lnTo>
                  <a:lnTo>
                    <a:pt x="318" y="862"/>
                  </a:lnTo>
                  <a:lnTo>
                    <a:pt x="318" y="771"/>
                  </a:lnTo>
                  <a:lnTo>
                    <a:pt x="272" y="771"/>
                  </a:lnTo>
                  <a:lnTo>
                    <a:pt x="272" y="726"/>
                  </a:lnTo>
                  <a:lnTo>
                    <a:pt x="318" y="681"/>
                  </a:lnTo>
                  <a:lnTo>
                    <a:pt x="272" y="635"/>
                  </a:lnTo>
                  <a:lnTo>
                    <a:pt x="318" y="590"/>
                  </a:lnTo>
                  <a:lnTo>
                    <a:pt x="318" y="545"/>
                  </a:lnTo>
                  <a:lnTo>
                    <a:pt x="272" y="545"/>
                  </a:lnTo>
                  <a:lnTo>
                    <a:pt x="272" y="454"/>
                  </a:lnTo>
                  <a:lnTo>
                    <a:pt x="454" y="454"/>
                  </a:lnTo>
                  <a:lnTo>
                    <a:pt x="499" y="408"/>
                  </a:lnTo>
                  <a:lnTo>
                    <a:pt x="499" y="46"/>
                  </a:lnTo>
                  <a:lnTo>
                    <a:pt x="454" y="0"/>
                  </a:lnTo>
                  <a:lnTo>
                    <a:pt x="46" y="0"/>
                  </a:lnTo>
                  <a:lnTo>
                    <a:pt x="0" y="46"/>
                  </a:lnTo>
                  <a:lnTo>
                    <a:pt x="0" y="408"/>
                  </a:lnTo>
                  <a:lnTo>
                    <a:pt x="46" y="454"/>
                  </a:lnTo>
                  <a:lnTo>
                    <a:pt x="182" y="454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88880" y="4797360"/>
            <a:ext cx="1440000" cy="1455840"/>
            <a:chOff x="488880" y="4797360"/>
            <a:chExt cx="1440000" cy="1455840"/>
          </a:xfrm>
        </p:grpSpPr>
        <p:sp>
          <p:nvSpPr>
            <p:cNvPr id="791" name=""/>
            <p:cNvSpPr/>
            <p:nvPr/>
          </p:nvSpPr>
          <p:spPr>
            <a:xfrm>
              <a:off x="48888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888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888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4880" y="5084640"/>
              <a:ext cx="720720" cy="865440"/>
            </a:xfrm>
            <a:custGeom>
              <a:avLst/>
              <a:gdLst/>
              <a:ahLst/>
              <a:rect l="l" t="t" r="r" b="b"/>
              <a:pathLst>
                <a:path w="454" h="545">
                  <a:moveTo>
                    <a:pt x="454" y="0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82" y="409"/>
                  </a:lnTo>
                  <a:lnTo>
                    <a:pt x="182" y="499"/>
                  </a:lnTo>
                  <a:lnTo>
                    <a:pt x="46" y="499"/>
                  </a:lnTo>
                  <a:lnTo>
                    <a:pt x="46" y="545"/>
                  </a:lnTo>
                  <a:lnTo>
                    <a:pt x="408" y="545"/>
                  </a:lnTo>
                  <a:lnTo>
                    <a:pt x="408" y="499"/>
                  </a:lnTo>
                  <a:lnTo>
                    <a:pt x="272" y="499"/>
                  </a:lnTo>
                  <a:lnTo>
                    <a:pt x="272" y="409"/>
                  </a:lnTo>
                  <a:lnTo>
                    <a:pt x="454" y="409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96880" y="5084640"/>
              <a:ext cx="216000" cy="8654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360520" y="4797360"/>
            <a:ext cx="1479960" cy="1480680"/>
            <a:chOff x="2360520" y="4797360"/>
            <a:chExt cx="1479960" cy="1480680"/>
          </a:xfrm>
        </p:grpSpPr>
        <p:sp>
          <p:nvSpPr>
            <p:cNvPr id="797" name=""/>
            <p:cNvSpPr/>
            <p:nvPr/>
          </p:nvSpPr>
          <p:spPr>
            <a:xfrm>
              <a:off x="2360520" y="4797360"/>
              <a:ext cx="1440000" cy="1440000"/>
            </a:xfrm>
            <a:prstGeom prst="roundRect">
              <a:avLst>
                <a:gd name="adj" fmla="val 760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60520" y="4797360"/>
              <a:ext cx="144000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60520" y="5734080"/>
              <a:ext cx="144000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00000">
              <a:off x="2579400" y="5067360"/>
              <a:ext cx="1081080" cy="1008000"/>
            </a:xfrm>
            <a:prstGeom prst="irregularSeal2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233960" y="4797360"/>
            <a:ext cx="1439640" cy="1455840"/>
            <a:chOff x="4233960" y="4797360"/>
            <a:chExt cx="1439640" cy="1455840"/>
          </a:xfrm>
        </p:grpSpPr>
        <p:sp>
          <p:nvSpPr>
            <p:cNvPr id="802" name=""/>
            <p:cNvSpPr/>
            <p:nvPr/>
          </p:nvSpPr>
          <p:spPr>
            <a:xfrm>
              <a:off x="423396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3396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23396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1240" y="5229360"/>
              <a:ext cx="863640" cy="86364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0" y="0"/>
                  </a:moveTo>
                  <a:lnTo>
                    <a:pt x="45" y="544"/>
                  </a:lnTo>
                  <a:lnTo>
                    <a:pt x="499" y="544"/>
                  </a:lnTo>
                  <a:lnTo>
                    <a:pt x="5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48160" y="5013360"/>
              <a:ext cx="1009800" cy="144360"/>
            </a:xfrm>
            <a:custGeom>
              <a:avLst/>
              <a:gdLst/>
              <a:ahLst/>
              <a:rect l="l" t="t" r="r" b="b"/>
              <a:pathLst>
                <a:path w="636" h="136">
                  <a:moveTo>
                    <a:pt x="636" y="136"/>
                  </a:moveTo>
                  <a:lnTo>
                    <a:pt x="0" y="136"/>
                  </a:lnTo>
                  <a:lnTo>
                    <a:pt x="0" y="45"/>
                  </a:lnTo>
                  <a:lnTo>
                    <a:pt x="227" y="45"/>
                  </a:lnTo>
                  <a:lnTo>
                    <a:pt x="227" y="0"/>
                  </a:lnTo>
                  <a:lnTo>
                    <a:pt x="409" y="0"/>
                  </a:lnTo>
                  <a:lnTo>
                    <a:pt x="409" y="45"/>
                  </a:lnTo>
                  <a:lnTo>
                    <a:pt x="636" y="45"/>
                  </a:lnTo>
                  <a:lnTo>
                    <a:pt x="636" y="13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7977240" y="2852640"/>
            <a:ext cx="1439640" cy="1455840"/>
            <a:chOff x="7977240" y="2852640"/>
            <a:chExt cx="1439640" cy="1455840"/>
          </a:xfrm>
        </p:grpSpPr>
        <p:sp>
          <p:nvSpPr>
            <p:cNvPr id="808" name=""/>
            <p:cNvSpPr/>
            <p:nvPr/>
          </p:nvSpPr>
          <p:spPr>
            <a:xfrm>
              <a:off x="7977240" y="285264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977240" y="285264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77240" y="378936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121600" y="2997360"/>
              <a:ext cx="1152720" cy="1152360"/>
            </a:xfrm>
            <a:prstGeom prst="sun">
              <a:avLst>
                <a:gd name="adj" fmla="val 20296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105600" y="4797360"/>
            <a:ext cx="1439640" cy="1455840"/>
            <a:chOff x="6105600" y="4797360"/>
            <a:chExt cx="1439640" cy="1455840"/>
          </a:xfrm>
        </p:grpSpPr>
        <p:sp>
          <p:nvSpPr>
            <p:cNvPr id="813" name=""/>
            <p:cNvSpPr/>
            <p:nvPr/>
          </p:nvSpPr>
          <p:spPr>
            <a:xfrm>
              <a:off x="610560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0560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0560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48520" y="4941720"/>
              <a:ext cx="1152360" cy="1152720"/>
            </a:xfrm>
            <a:prstGeom prst="donut">
              <a:avLst>
                <a:gd name="adj" fmla="val 8541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81960" y="5373720"/>
              <a:ext cx="287280" cy="28728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69240" y="5445000"/>
              <a:ext cx="215640" cy="144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7100000">
              <a:off x="6769080" y="5190840"/>
              <a:ext cx="290520" cy="716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8" y="0"/>
                  </a:lnTo>
                  <a:lnTo>
                    <a:pt x="21600" y="10800"/>
                  </a:lnTo>
                  <a:lnTo>
                    <a:pt x="1910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977240" y="4797360"/>
            <a:ext cx="1439640" cy="1455840"/>
            <a:chOff x="7977240" y="4797360"/>
            <a:chExt cx="1439640" cy="1455840"/>
          </a:xfrm>
        </p:grpSpPr>
        <p:sp>
          <p:nvSpPr>
            <p:cNvPr id="821" name=""/>
            <p:cNvSpPr/>
            <p:nvPr/>
          </p:nvSpPr>
          <p:spPr>
            <a:xfrm>
              <a:off x="7977240" y="4797360"/>
              <a:ext cx="1439640" cy="1440000"/>
            </a:xfrm>
            <a:custGeom>
              <a:avLst/>
              <a:gdLst>
                <a:gd name="textAreaLeft" fmla="*/ 32040 w 1439640"/>
                <a:gd name="textAreaRight" fmla="*/ 1407600 w 1439640"/>
                <a:gd name="textAreaTop" fmla="*/ 32040 h 1440000"/>
                <a:gd name="textAreaBottom" fmla="*/ 140796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1643" y="0"/>
                  </a:moveTo>
                  <a:arcTo wR="1643" hR="1643" stAng="16200000" swAng="-5400000"/>
                  <a:lnTo>
                    <a:pt x="0" y="19962"/>
                  </a:lnTo>
                  <a:arcTo wR="1643" hR="1643" stAng="10800000" swAng="-5400000"/>
                  <a:lnTo>
                    <a:pt x="19957" y="21605"/>
                  </a:lnTo>
                  <a:arcTo wR="1643" hR="1643" stAng="5400000" swAng="-5400000"/>
                  <a:lnTo>
                    <a:pt x="21600" y="1643"/>
                  </a:lnTo>
                  <a:arcTo wR="1643" hR="1643" stAng="0" swAng="-5400000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77240" y="4797360"/>
              <a:ext cx="1439640" cy="433440"/>
            </a:xfrm>
            <a:prstGeom prst="roundRect">
              <a:avLst>
                <a:gd name="adj" fmla="val 2197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77240" y="5734080"/>
              <a:ext cx="1439640" cy="519120"/>
            </a:xfrm>
            <a:prstGeom prst="roundRect">
              <a:avLst>
                <a:gd name="adj" fmla="val 21713"/>
              </a:avLst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80808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65960" y="5084640"/>
              <a:ext cx="863640" cy="936720"/>
            </a:xfrm>
            <a:custGeom>
              <a:avLst/>
              <a:gdLst>
                <a:gd name="textAreaLeft" fmla="*/ 203040 w 863640"/>
                <a:gd name="textAreaRight" fmla="*/ 660240 w 863640"/>
                <a:gd name="textAreaTop" fmla="*/ 110160 h 936720"/>
                <a:gd name="textAreaBottom" fmla="*/ 587520 h 936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2-22T06:34:15Z</dcterms:modified>
  <cp:revision>1</cp:revision>
  <dc:subject>PPT221 _シンプルな特長アイコン</dc:subject>
  <dc:title>PPT221 _シンプルな特長アイコン</dc:title>
</cp:coreProperties>
</file>